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A1DE-C7D9-4267-A176-EA146EA92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0266-457E-4417-BB2E-D6EC089E2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490-FF29-46B0-9496-D4B50F91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D60-25DC-4BE3-BDB5-55CC9DA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28D-6E15-463D-9160-E631FFFE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6C5-B04C-4D26-9328-C74A34D2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C04-76EF-485D-A928-B15763A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4B3-13A4-4319-BE0C-C2CA3E6B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E09-CF49-4952-B6C0-85C329FF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C92-1FAD-4F3C-AD32-6973C7AA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EDE-6A53-4A4E-86B5-CDC10FD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206-0874-44AD-A7F7-3791F86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3BF-45D7-48EF-BF61-C93DFB0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A73-81DD-41E7-B370-89554BA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FB30-1B83-4D2D-BA55-F45A80FC9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2421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Разработка и апроб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типовых задач 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http://www.edu.cap.ru/home/8223/na%20banner/%d1%84%d0%b3%d0%be%d1%81.jpg"/>
          <p:cNvPicPr/>
          <p:nvPr/>
        </p:nvPicPr>
        <p:blipFill>
          <a:blip r:embed="rId1"/>
          <a:stretch/>
        </p:blipFill>
        <p:spPr>
          <a:xfrm>
            <a:off x="7164360" y="0"/>
            <a:ext cx="1835280" cy="2222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228600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шертская сред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образовательная школ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сёнова Л.Г, Рожкова Л.А., Туманова В.Л., Яковле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словия выпол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 уроке в течение 10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струк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ребования к дидактическому материал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ждому ученику предлагается таблица , состоящая из 2-4 столбцов понятий, объектов, явлений  в печатном вариант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рифт :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imes New Roman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14. Интервал-1,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дания для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ведения стартового контрольного мероприят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26920" y="3500280"/>
          <a:ext cx="7777440" cy="2665440"/>
        </p:xfrm>
        <a:graphic>
          <a:graphicData uri="http://schemas.openxmlformats.org/drawingml/2006/table">
            <a:tbl>
              <a:tblPr/>
              <a:tblGrid>
                <a:gridCol w="3759480"/>
                <a:gridCol w="4017960"/>
              </a:tblGrid>
              <a:tr h="8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е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Ивана Купа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жд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яли задание -17 , справились – 15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дания для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ведения стартового контрольного мероприят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6920" y="3500280"/>
          <a:ext cx="7777440" cy="2665440"/>
        </p:xfrm>
        <a:graphic>
          <a:graphicData uri="http://schemas.openxmlformats.org/drawingml/2006/table">
            <a:tbl>
              <a:tblPr/>
              <a:tblGrid>
                <a:gridCol w="3759480"/>
                <a:gridCol w="4017960"/>
              </a:tblGrid>
              <a:tr h="8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авянские празд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ристианские празд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е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Ивана Купа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жд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яли задание -17 , справились – 15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2205000"/>
          <a:ext cx="7777440" cy="4157640"/>
        </p:xfrm>
        <a:graphic>
          <a:graphicData uri="http://schemas.openxmlformats.org/drawingml/2006/table">
            <a:tbl>
              <a:tblPr/>
              <a:tblGrid>
                <a:gridCol w="3759480"/>
                <a:gridCol w="4017960"/>
              </a:tblGrid>
              <a:tr h="106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альное колечк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Горячий камен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от-ворюг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имур и его команд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кие бывают дожд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ук и Ге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29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яли задание -17 , справились – 4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2205000"/>
          <a:ext cx="7777440" cy="4157640"/>
        </p:xfrm>
        <a:graphic>
          <a:graphicData uri="http://schemas.openxmlformats.org/drawingml/2006/table">
            <a:tbl>
              <a:tblPr/>
              <a:tblGrid>
                <a:gridCol w="3759480"/>
                <a:gridCol w="4017960"/>
              </a:tblGrid>
              <a:tr h="106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изведения Паустов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изведения Гайда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альное колечк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Горячий камен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от-ворюг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имур и его команд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кие бывают дожд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ук и Ге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29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яли задание -17 , справились – 4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55640" y="2276640"/>
          <a:ext cx="7921800" cy="4157640"/>
        </p:xfrm>
        <a:graphic>
          <a:graphicData uri="http://schemas.openxmlformats.org/drawingml/2006/table">
            <a:tbl>
              <a:tblPr/>
              <a:tblGrid>
                <a:gridCol w="3903840"/>
                <a:gridCol w="4017960"/>
              </a:tblGrid>
              <a:tr h="106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д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льз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вств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ма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ли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яли задание -17 , справились – 10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5640" y="2276640"/>
          <a:ext cx="7921800" cy="4157640"/>
        </p:xfrm>
        <a:graphic>
          <a:graphicData uri="http://schemas.openxmlformats.org/drawingml/2006/table">
            <a:tbl>
              <a:tblPr/>
              <a:tblGrid>
                <a:gridCol w="3903840"/>
                <a:gridCol w="4017960"/>
              </a:tblGrid>
              <a:tr h="106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ные  соглас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произносимые соглас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д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льз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вств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ма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ли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2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яли задание -17 , справились – 10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словия включения типовых задач применения УУД в содержательно-временную схему учебного процесса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1700280"/>
          <a:ext cx="8229600" cy="496872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ё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ноклеточные и многоклеточные организ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ы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2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гозначные чи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мир (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ительно-обобщающий урок по историческому матери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256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андартах второго поколения делается акцент на формирование универсальных учебных действий. Одним из таких действий является классификация. Обучающиеся получают много знаний о предметах и явлениях окружающей действительности, поэтому важно уметь располагать знания в определенном логическом порядке, приводить их в систему. Задача развития умения классифицировать является метапредметной.  Анализируя результаты внутришкольного мониторинга по сформированности метапредметных умений, мы пришли к выводу, что у обучающихся нашей школы это умение сформировано слабо. Проанализировав тематическое содержание учебных предметов в 4-6 классах, решили, работа по формированию умения классифицировать должна вестись на  разных уроках. К работе в апробации привлекли учителя начальных классов, чтобы выстроить систему преемственности между уров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нашей рабо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точнить методику формирования умения самостоятельно выбирать основания и критерии для классификации на разных уроках в 4-6 классах, конкретнее - научить обучающихся самостоятельно определять общий признак классификации через решение типовых задач на разных уроках учебного плана в 4-6 класс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меры использования типовых задач 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ных уроках(1 уровен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рок географии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2708280"/>
          <a:ext cx="8218440" cy="367488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кури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пите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ер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тур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рок географии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2708280"/>
          <a:ext cx="8218440" cy="367488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еты земной групп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еты-гига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кури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пите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ер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тур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рок биологи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514600"/>
          <a:ext cx="8291520" cy="365112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юльпа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ыре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ве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уванчи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рок биологи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5280" y="2514600"/>
          <a:ext cx="8291520" cy="365112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ультурны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корастущи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юльпа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ыре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ве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уванчи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рок  русского языка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2514600"/>
          <a:ext cx="8291520" cy="365112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ла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у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тё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терпё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Урок  русского языка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2514600"/>
          <a:ext cx="8291520" cy="365112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ществительные муж.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ечия-ис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ла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у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тё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терпё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меры использования типовых задач 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ных уроках(2 уровен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 географи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олните своим приме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2421000"/>
          <a:ext cx="8183520" cy="4176720"/>
        </p:xfrm>
        <a:graphic>
          <a:graphicData uri="http://schemas.openxmlformats.org/drawingml/2006/table">
            <a:tbl>
              <a:tblPr/>
              <a:tblGrid>
                <a:gridCol w="4068720"/>
                <a:gridCol w="41148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ф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аль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ни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вестня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иди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 географи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олните своим приме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421000"/>
          <a:ext cx="8183520" cy="4176720"/>
        </p:xfrm>
        <a:graphic>
          <a:graphicData uri="http://schemas.openxmlformats.org/drawingml/2006/table">
            <a:tbl>
              <a:tblPr/>
              <a:tblGrid>
                <a:gridCol w="4068720"/>
                <a:gridCol w="41148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П органического происх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П магматического происх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ф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аль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ни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вестня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иди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зовательный результат в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терминологии ФГОС ОО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мение самостоятельно выбирать основания и критерии для классифик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 биологи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олните своим приме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2421000"/>
          <a:ext cx="8183520" cy="4176720"/>
        </p:xfrm>
        <a:graphic>
          <a:graphicData uri="http://schemas.openxmlformats.org/drawingml/2006/table">
            <a:tbl>
              <a:tblPr/>
              <a:tblGrid>
                <a:gridCol w="4068720"/>
                <a:gridCol w="41148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юльп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сол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сно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уре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цис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ма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 биологи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олните своим приме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000" y="2421000"/>
          <a:ext cx="8183520" cy="4176720"/>
        </p:xfrm>
        <a:graphic>
          <a:graphicData uri="http://schemas.openxmlformats.org/drawingml/2006/table">
            <a:tbl>
              <a:tblPr/>
              <a:tblGrid>
                <a:gridCol w="4068720"/>
                <a:gridCol w="41148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нод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вуд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юльп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сол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сно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уре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цис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ма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 математик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олните своим приме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2421000"/>
          <a:ext cx="8183520" cy="4176720"/>
        </p:xfrm>
        <a:graphic>
          <a:graphicData uri="http://schemas.openxmlformats.org/drawingml/2006/table">
            <a:tbl>
              <a:tblPr/>
              <a:tblGrid>
                <a:gridCol w="4068720"/>
                <a:gridCol w="41148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ломет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не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юй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ци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 математик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олните своим приме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8000" y="2421000"/>
          <a:ext cx="8183520" cy="4176720"/>
        </p:xfrm>
        <a:graphic>
          <a:graphicData uri="http://schemas.openxmlformats.org/drawingml/2006/table">
            <a:tbl>
              <a:tblPr/>
              <a:tblGrid>
                <a:gridCol w="4068720"/>
                <a:gridCol w="41148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ы д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ы ве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ломет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не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юй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ци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меры использования типовых задач 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ных уроках(3 уровен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русского язык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9000"/>
          <a:ext cx="8229600" cy="424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ы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еж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у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знич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у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ёж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стош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русского язык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989000"/>
          <a:ext cx="8229600" cy="424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ществительные муж.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е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ы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еж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заму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знич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у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олодёж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стош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биологи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9000"/>
          <a:ext cx="8229600" cy="424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сл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ммин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шканч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га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ност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о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оф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ый ол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биологи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989000"/>
          <a:ext cx="8229600" cy="424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вотные сте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вотные тунд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сл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ммин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шканч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га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горност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обо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оф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ый ол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математик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2276640"/>
          <a:ext cx="8229600" cy="39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юй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ли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ет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нкретизация выбранного образовательного результат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действиях учеников 4-6 класс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49192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Умение определять общий при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математик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2276640"/>
          <a:ext cx="8229600" cy="39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иницы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иницы д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юй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илли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грам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ет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литературы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2276640"/>
          <a:ext cx="8229600" cy="39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.Н.Толст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.М.Заболоц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П.Чех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.В.Михал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А.Бл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Н.Толст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Урок  литературы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Найдите в каждой группе лишнее слово, вычеркните его. Сформулируйте и запишите общий признак для осталь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2276640"/>
          <a:ext cx="8229600" cy="39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ис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э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.Н.Толст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.М.Заболоц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П.Чех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.В.Михал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А.А.Бл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А.Н.Толст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меры использования типовых задач 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ных уроках(4 уровен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Урок  географии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читайте слова. Определите и запишите признак для классификации. Оформите группы в соответствии с данным призна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азили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нбер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ашингт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к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Урок  биологии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читайте слова. Определите и запишите признак для классификации. Оформите группы в соответствии с данным призна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лев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ж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си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хом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Урок 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читайте слова. Определите и запишите признак для классификации. Оформите группы в соответствии с данным призна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аф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ыл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м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легор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лицетвор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с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рок матема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Объект 3" descr="F:\SAM_3909.JPG"/>
          <p:cNvPicPr/>
          <p:nvPr/>
        </p:nvPicPr>
        <p:blipFill>
          <a:blip r:embed="rId1"/>
          <a:srcRect l="0" t="10688" r="0" b="0"/>
          <a:stretch/>
        </p:blipFill>
        <p:spPr>
          <a:xfrm>
            <a:off x="-108000" y="1268280"/>
            <a:ext cx="925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запиши названия групп, дополни своим прим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ния дл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ведения итогового контрольного мероприят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2637000"/>
          <a:ext cx="8712000" cy="4032000"/>
        </p:xfrm>
        <a:graphic>
          <a:graphicData uri="http://schemas.openxmlformats.org/drawingml/2006/table">
            <a:tbl>
              <a:tblPr/>
              <a:tblGrid>
                <a:gridCol w="4255920"/>
                <a:gridCol w="4456080"/>
              </a:tblGrid>
              <a:tr h="455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уванч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ь –и- маче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ли задание – 52, справились – 42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запиши названия групп, дополни своим прим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ния дл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ведения итогового контрольного мероприят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637000"/>
          <a:ext cx="8713800" cy="4240080"/>
        </p:xfrm>
        <a:graphic>
          <a:graphicData uri="http://schemas.openxmlformats.org/drawingml/2006/table">
            <a:tbl>
              <a:tblPr/>
              <a:tblGrid>
                <a:gridCol w="4255920"/>
                <a:gridCol w="4457880"/>
              </a:tblGrid>
              <a:tr h="455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 небо осенью дыш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пошёл он к синему мор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 и солнце. День чудесны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его она взглянула, тяжелёхонько вздохну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хвы не боятся могучих владык. И княжеский дар им не нуже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киреку, кикуку! Царствуй лёжа на бо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ли задание – 52, справились – 38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ы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которых проводилась апроб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-6 кл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л-во учащихс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ите и запишите признак, по которому сформированы групп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запиши названия групп, дополни своим прим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ния дл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ведения итогового контрольного мероприят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2637000"/>
          <a:ext cx="8713800" cy="403056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952720"/>
              </a:tblGrid>
              <a:tr h="455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 Кал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ёт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цин Б.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й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ин В.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едев Д.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ли задание – 52, справились – 41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итерии оцени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1335240"/>
          <a:ext cx="8229600" cy="5394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ён признак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 общий признак  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каждое верное определение призн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8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 собственный пример (исключено лишнее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каждый верный 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нализ результатов апроб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робации приняли участие 52 обучающихся 4-6 классов. Апробация проводилась на уроках. 56 % обучающихся умеют определять общий признак классификации. Затруднения были связаны с формулировкой общего признака группы. По этому критерию справились 48% обучающихся. Дети умеют приводить собственные примеры для каждой группы - 63%. По четвертому критерию все справились. Результаты апробации показали необходимость продолжения работы над формированием умения определять общий признак группы. Думаем, что эту работу можно организовать в рамках урочной деятельности. Решили продолжить работу по выстраиванию преемственности между уров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 апроб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506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апробацион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2016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товое 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2016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 классы - Аксёнова Л.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ы- Рожкова Л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ы - Туманова В.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типовых задач в учебны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- октяб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ы - Аксёнова Л.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, 6 классы- Рожкова Л.А., Туманова В.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ное 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октября -4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октября-5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октября-6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ы - Аксёнова Л.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ы- Рожкова Л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ы - Туманова В.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чебные дисципли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усский язы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тор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исание зад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Учащимся предлагается, пользуясь таблицами, определить признак, по которому сгруппированы объекты, явления, слова, понятия, сформулировать его и запис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а выполнения зад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ндивидуальная письмен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8T17:43:21Z</dcterms:created>
  <dc:creator>Лариса</dc:creator>
  <dc:description/>
  <dc:language>en-US</dc:language>
  <cp:lastModifiedBy>Лариса</cp:lastModifiedBy>
  <dcterms:modified xsi:type="dcterms:W3CDTF">2016-12-08T16:10:53Z</dcterms:modified>
  <cp:revision>70</cp:revision>
  <dc:subject/>
  <dc:title>Слайд 1</dc:title>
</cp:coreProperties>
</file>