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6454-DBBF-4640-B479-F8FA7D08E4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C1DB-24BA-40D0-B61F-5BB69F835E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DBAB-A56F-467F-8280-607E72D2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0167-312A-4DD0-84A2-F8C67B93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AE78-6922-41AC-A49E-D5CDF116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19FE-FB3B-4EA1-8878-53EC3F200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63B6-534C-42F6-90FE-FC18EB62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55C3-BEE6-4591-A756-B2CA8775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5ECB-F8AE-4FFA-A441-950F93F6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49DA-660B-4959-B6BA-15E49BDE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C2A5-A234-4C5D-B243-367621FF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636A-5F48-46DC-B946-6F2AE128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7DF7-6696-42BB-A5C6-71D0A671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42CE-6B0E-4271-B0B1-0860ED95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F578-18A8-4C5A-AE96-192B9AE91E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3A47-50D0-44B3-ADDA-70AF95432D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шапка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571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928880"/>
            <a:ext cx="871524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</a:rPr>
              <a:t>ЗАДАЧИ НАУЧНО</a:t>
            </a:r>
            <a:r>
              <a:rPr b="1" lang="en-US" sz="3200" spc="-1" strike="noStrike">
                <a:solidFill>
                  <a:srgbClr val="002060"/>
                </a:solidFill>
                <a:latin typeface="Arial Black"/>
              </a:rPr>
              <a:t>-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</a:rPr>
              <a:t>МЕТОДИЧЕСКОГО  ОБЕСПЕЧЕНИЯ И СОПРОВОЖДЕНИЯ ВВЕДЕНИЯ  ФГОС ОБЩЕГО ОБРА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6" descr=""/>
          <p:cNvPicPr/>
          <p:nvPr/>
        </p:nvPicPr>
        <p:blipFill>
          <a:blip r:embed="rId2"/>
          <a:stretch/>
        </p:blipFill>
        <p:spPr>
          <a:xfrm>
            <a:off x="1255680" y="5602320"/>
            <a:ext cx="7553520" cy="987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 Black"/>
              </a:rPr>
              <a:t>Функции и механиз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79280" y="836640"/>
          <a:ext cx="8785440" cy="5767200"/>
        </p:xfrm>
        <a:graphic>
          <a:graphicData uri="http://schemas.openxmlformats.org/drawingml/2006/table">
            <a:tbl>
              <a:tblPr/>
              <a:tblGrid>
                <a:gridCol w="1871640"/>
                <a:gridCol w="3241800"/>
                <a:gridCol w="3672000"/>
              </a:tblGrid>
              <a:tr h="191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20000"/>
                          </a:solidFill>
                          <a:latin typeface="Arial Black"/>
                        </a:rPr>
                        <a:t>Федеральны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20000"/>
                          </a:solidFill>
                          <a:latin typeface="Arial Black"/>
                        </a:rPr>
                        <a:t>упр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f497d"/>
                          </a:solidFill>
                          <a:latin typeface="Arial Black"/>
                        </a:rPr>
                        <a:t>Научные разрабо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f497d"/>
                          </a:solidFill>
                          <a:latin typeface="Arial Black"/>
                        </a:rPr>
                        <a:t>УМК, электронные ресур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f497d"/>
                          </a:solidFill>
                          <a:latin typeface="Arial Black"/>
                        </a:rPr>
                        <a:t>Распространение и продвижение разработок и ресурсов в регионы в том числе лучших региональных продукт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f497d"/>
                          </a:solidFill>
                          <a:latin typeface="Arial Black"/>
                        </a:rPr>
                        <a:t>Подготовка  тьюто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f497d"/>
                          </a:solidFill>
                          <a:latin typeface="Arial Black"/>
                        </a:rPr>
                        <a:t>Концептуальные проек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f497d"/>
                          </a:solidFill>
                          <a:latin typeface="Arial Black"/>
                        </a:rPr>
                        <a:t>Взаимодействие регионов  виртуальное и реальное  через семинары конференции работу в проектах  и д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20000"/>
                          </a:solidFill>
                          <a:latin typeface="Arial Black"/>
                        </a:rPr>
                        <a:t>Региональны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20000"/>
                          </a:solidFill>
                          <a:latin typeface="Arial Black"/>
                        </a:rPr>
                        <a:t>упр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Arial Black"/>
                        </a:rPr>
                        <a:t>Научно методические разрабо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Arial Black"/>
                        </a:rPr>
                        <a:t>Повышение квалиф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Arial Black"/>
                        </a:rPr>
                        <a:t>Организация внедрения и экспериментальной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f497d"/>
                          </a:solidFill>
                          <a:latin typeface="Arial Black"/>
                        </a:rPr>
                        <a:t>Прикладные прое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f497d"/>
                          </a:solidFill>
                          <a:latin typeface="Arial Black"/>
                        </a:rPr>
                        <a:t>Экспериментальные и стажировочные площадки Сетевое взаимодействие Ассоциации педагог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20000"/>
                          </a:solidFill>
                          <a:latin typeface="Arial Black"/>
                        </a:rPr>
                        <a:t>Муниципальны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20000"/>
                          </a:solidFill>
                          <a:latin typeface="Arial Black"/>
                        </a:rPr>
                        <a:t>упр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Arial Black"/>
                        </a:rPr>
                        <a:t>Отбор разрабо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Arial Black"/>
                        </a:rPr>
                        <a:t>Информирование учителей Организация внедр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f497d"/>
                          </a:solidFill>
                          <a:latin typeface="Arial Black"/>
                        </a:rPr>
                        <a:t>Создание банков методических материалов Распространение научно</a:t>
                      </a: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Arial Black"/>
                        </a:rPr>
                        <a:t>-</a:t>
                      </a:r>
                      <a:r>
                        <a:rPr b="0" lang="ru-RU" sz="1400" spc="-1" strike="noStrike">
                          <a:solidFill>
                            <a:srgbClr val="1f497d"/>
                          </a:solidFill>
                          <a:latin typeface="Arial Black"/>
                        </a:rPr>
                        <a:t>методических разработок среди учителей  оказание помощи в их освоении через семинары,совещания, консультации и др</a:t>
                      </a: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Arial Black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20000"/>
                          </a:solidFill>
                          <a:latin typeface="Arial Black"/>
                        </a:rPr>
                        <a:t>Школьны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20000"/>
                          </a:solidFill>
                          <a:latin typeface="Arial Black"/>
                        </a:rPr>
                        <a:t>упр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f497d"/>
                          </a:solidFill>
                          <a:latin typeface="Arial Black"/>
                        </a:rPr>
                        <a:t>Включение   учителей в деятельность по освоению новых разработанных средст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f497d"/>
                          </a:solidFill>
                          <a:latin typeface="Arial Black"/>
                        </a:rPr>
                        <a:t>Формирование и реализации портфолио проектов введения ФГ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05636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МЕТАПРЕДМЕТНЫЕ РЕЗУЛЬТАТЫ РЕАЛИЗАЦИИ  ОСНОВНОЙ ОБРАЗОВАТЕЛЬНОЙ ПРОГРАМ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640" y="1773000"/>
            <a:ext cx="712944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7375e"/>
                </a:solidFill>
                <a:latin typeface="Calibri"/>
              </a:rPr>
              <a:t>умение самостоятельно определять цели своего обуче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7375e"/>
                </a:solidFill>
                <a:latin typeface="Calibri"/>
              </a:rPr>
              <a:t> </a:t>
            </a:r>
            <a:r>
              <a:rPr b="1" lang="en-US" sz="2200" spc="-1" strike="noStrike">
                <a:solidFill>
                  <a:srgbClr val="17375e"/>
                </a:solidFill>
                <a:latin typeface="Calibri"/>
              </a:rPr>
              <a:t>умение самостоятельно планировать пути достижения целе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7375e"/>
                </a:solidFill>
                <a:latin typeface="Calibri"/>
              </a:rPr>
              <a:t> </a:t>
            </a:r>
            <a:r>
              <a:rPr b="1" lang="en-US" sz="2200" spc="-1" strike="noStrike">
                <a:solidFill>
                  <a:srgbClr val="17375e"/>
                </a:solidFill>
                <a:latin typeface="Calibri"/>
              </a:rPr>
              <a:t>умение соотносить свои действия с планируемыми результатами, осуществлять контроль своей деятельност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7375e"/>
                </a:solidFill>
                <a:latin typeface="Calibri"/>
              </a:rPr>
              <a:t> </a:t>
            </a:r>
            <a:r>
              <a:rPr b="1" lang="en-US" sz="2200" spc="-1" strike="noStrike">
                <a:solidFill>
                  <a:srgbClr val="17375e"/>
                </a:solidFill>
                <a:latin typeface="Calibri"/>
              </a:rPr>
              <a:t>умение оценивать правильность выполнения учебной задачи, собственные возможности её реше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7375e"/>
                </a:solidFill>
                <a:latin typeface="Calibri"/>
              </a:rPr>
              <a:t> </a:t>
            </a:r>
            <a:r>
              <a:rPr b="1" lang="en-US" sz="2200" spc="-1" strike="noStrike">
                <a:solidFill>
                  <a:srgbClr val="17375e"/>
                </a:solidFill>
                <a:latin typeface="Calibri"/>
              </a:rPr>
              <a:t>владение основами самоконтроля, самооценки, принятия решений и осуществления осознанного выбора в учебной и познавательной деятельност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9A94-4593-4207-8B20-D327FE7DA1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6920" y="836640"/>
            <a:ext cx="69138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МЕТАПРЕДМЕТНЫЕ РЕЗУЛЬТАТЫ РЕАЛИЗАЦИИ  ОСНОВНОЙ ОБРАЗОВАТЕЛЬНОЙ ПРОГРАМ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6920" y="2133360"/>
            <a:ext cx="69138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37609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76092"/>
                </a:solidFill>
                <a:latin typeface="Calibri"/>
              </a:rPr>
              <a:t>умение определять понятия, создавать обобще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37609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76092"/>
                </a:solidFill>
                <a:latin typeface="Calibri"/>
              </a:rPr>
              <a:t> </a:t>
            </a:r>
            <a:r>
              <a:rPr b="1" lang="en-US" sz="3000" spc="-1" strike="noStrike">
                <a:solidFill>
                  <a:srgbClr val="376092"/>
                </a:solidFill>
                <a:latin typeface="Calibri"/>
              </a:rPr>
              <a:t>умение создавать, применять и преобразовывать знаки и символы, модели и схемы для решения учебных и познавательных задач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37609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76092"/>
                </a:solidFill>
                <a:latin typeface="Calibri"/>
              </a:rPr>
              <a:t> </a:t>
            </a:r>
            <a:r>
              <a:rPr b="1" lang="en-US" sz="3000" spc="-1" strike="noStrike">
                <a:solidFill>
                  <a:srgbClr val="376092"/>
                </a:solidFill>
                <a:latin typeface="Calibri"/>
              </a:rPr>
              <a:t>смысловое чтение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29B0-23F5-497A-A20C-76ADB921CD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63272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МЕТАПРЕДМЕТНЫЕ РЕЗУЛЬТАТЫ РЕАЛИЗАЦИИ  ОСНОВНОЙ ОБРАЗОВАТЕЛЬНОЙ ПРОГРАМ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9640" indent="-359640" algn="just">
              <a:lnSpc>
                <a:spcPct val="80000"/>
              </a:lnSpc>
              <a:spcBef>
                <a:spcPts val="601"/>
              </a:spcBef>
              <a:buClr>
                <a:srgbClr val="37609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умение организовывать учебное сотрудничество и совместную деятельность с учителем и сверстниками; работать индивидуально и в групп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9640" indent="-359640" algn="just">
              <a:lnSpc>
                <a:spcPct val="80000"/>
              </a:lnSpc>
              <a:spcBef>
                <a:spcPts val="601"/>
              </a:spcBef>
              <a:buClr>
                <a:srgbClr val="37609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 </a:t>
            </a: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умение осознанно использовать речевые средства в соответствии с задачей коммуникации для выражения своих чувств, мыслей и потребност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9640" indent="-359640" algn="just">
              <a:lnSpc>
                <a:spcPct val="80000"/>
              </a:lnSpc>
              <a:spcBef>
                <a:spcPts val="601"/>
              </a:spcBef>
              <a:buClr>
                <a:srgbClr val="37609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умение планирования и регуляции своей деятельности; владение устной и письменной речью, монологической контекстной речь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9640" indent="-359640" algn="just">
              <a:lnSpc>
                <a:spcPct val="80000"/>
              </a:lnSpc>
              <a:spcBef>
                <a:spcPts val="601"/>
              </a:spcBef>
              <a:buClr>
                <a:srgbClr val="37609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формирование и развитие компетентности в области использования информационно-коммуникационных технологий (далее ИКТ - компетенции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9640" indent="-359640" algn="just">
              <a:lnSpc>
                <a:spcPct val="80000"/>
              </a:lnSpc>
              <a:spcBef>
                <a:spcPts val="601"/>
              </a:spcBef>
              <a:buClr>
                <a:srgbClr val="37609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формирование и развитие экологического мышления, умение применять его в познавательной, коммуникативной, социальной практике и профессиональной ориент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9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834A-862B-4B28-8123-9CD72B145B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620640"/>
            <a:ext cx="712944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СИСТЕМА ИЗМЕНЕНИЙ ПРИ ВВЕДЕНИИ ФГО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5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Изменения в цел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alibri"/>
              </a:rPr>
              <a:t>Постановка новых целей ИЛИ прежних, которые не достигали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Изменения в  образо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76092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alibri"/>
              </a:rPr>
              <a:t>Содержании образовательных програм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76092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376092"/>
                </a:solidFill>
                <a:latin typeface="Calibri"/>
              </a:rPr>
              <a:t>Формах, методах, технологии образо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76092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alibri"/>
              </a:rPr>
              <a:t>Организации учебного процесса (системах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Изменения в ресурс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76092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alibri"/>
              </a:rPr>
              <a:t>Учебниках, программ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76092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alibri"/>
              </a:rPr>
              <a:t>Квалификации кад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76092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alibri"/>
              </a:rPr>
              <a:t>Материально-техническом оснащении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76092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alibri"/>
              </a:rPr>
              <a:t>Нормативно-правовом обеспечении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76092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376092"/>
                </a:solidFill>
                <a:latin typeface="Calibri"/>
              </a:rPr>
              <a:t>В системе методической  рабо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76092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alibri"/>
              </a:rPr>
              <a:t>В системе стимулирования труда и вознаграждения кад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76092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alibri"/>
              </a:rPr>
              <a:t>В системе оценки и аттестации кад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Выгнутая вниз стрелка 5"/>
          <p:cNvSpPr/>
          <p:nvPr/>
        </p:nvSpPr>
        <p:spPr>
          <a:xfrm rot="16200000">
            <a:off x="6777720" y="1942200"/>
            <a:ext cx="1216080" cy="731880"/>
          </a:xfrm>
          <a:custGeom>
            <a:avLst/>
            <a:gdLst>
              <a:gd name="textAreaLeft" fmla="*/ 245520 w 1216080"/>
              <a:gd name="textAreaRight" fmla="*/ 946440 w 1216080"/>
              <a:gd name="textAreaTop" fmla="*/ 97920 h 731880"/>
              <a:gd name="textAreaBottom" fmla="*/ 633960 h 73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27" hR="21600" stAng="10800000" swAng="-5400000"/>
                <a:lnTo>
                  <a:pt x="12448" y="21600"/>
                </a:lnTo>
                <a:arcTo wR="8727" hR="21600" stAng="5400000" swAng="-3445044"/>
                <a:lnTo>
                  <a:pt x="21323" y="5400"/>
                </a:lnTo>
                <a:lnTo>
                  <a:pt x="19314" y="0"/>
                </a:lnTo>
                <a:lnTo>
                  <a:pt x="16750" y="5400"/>
                </a:lnTo>
                <a:lnTo>
                  <a:pt x="17176" y="5400"/>
                </a:lnTo>
                <a:arcTo wR="8727" hR="21600" stAng="1954956" swAng="3142750"/>
                <a:lnTo>
                  <a:pt x="10587" y="21103"/>
                </a:lnTo>
                <a:arcTo wR="8727" hR="21600" stAng="5702294" swAng="5097706"/>
                <a:close/>
              </a:path>
              <a:path fill="darkenLess" w="21600" h="21600">
                <a:moveTo>
                  <a:pt x="0" y="0"/>
                </a:moveTo>
                <a:arcTo wR="8727" hR="21600" stAng="10800000" swAng="-5400000"/>
                <a:lnTo>
                  <a:pt x="12448" y="21600"/>
                </a:lnTo>
                <a:arcTo wR="8727" hR="21600" stAng="5400000" swAng="302294"/>
                <a:lnTo>
                  <a:pt x="10587" y="21103"/>
                </a:lnTo>
                <a:arcTo wR="8727" hR="21600" stAng="5702294" swAng="509770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Выгнутая вниз стрелка 6"/>
          <p:cNvSpPr/>
          <p:nvPr/>
        </p:nvSpPr>
        <p:spPr>
          <a:xfrm rot="16200000">
            <a:off x="6850080" y="3456000"/>
            <a:ext cx="1216080" cy="730080"/>
          </a:xfrm>
          <a:custGeom>
            <a:avLst/>
            <a:gdLst>
              <a:gd name="textAreaLeft" fmla="*/ 245520 w 1216080"/>
              <a:gd name="textAreaRight" fmla="*/ 946440 w 1216080"/>
              <a:gd name="textAreaTop" fmla="*/ 97560 h 730080"/>
              <a:gd name="textAreaBottom" fmla="*/ 632520 h 73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31" hR="21600" stAng="10800000" swAng="-5400000"/>
                <a:lnTo>
                  <a:pt x="12444" y="21600"/>
                </a:lnTo>
                <a:arcTo wR="8731" hR="21600" stAng="5400000" swAng="-3445848"/>
                <a:lnTo>
                  <a:pt x="21323" y="5400"/>
                </a:lnTo>
                <a:lnTo>
                  <a:pt x="19319" y="0"/>
                </a:lnTo>
                <a:lnTo>
                  <a:pt x="16760" y="5400"/>
                </a:lnTo>
                <a:lnTo>
                  <a:pt x="17185" y="5400"/>
                </a:lnTo>
                <a:arcTo wR="8731" hR="21600" stAng="1954152" swAng="3144238"/>
                <a:lnTo>
                  <a:pt x="10588" y="21106"/>
                </a:lnTo>
                <a:arcTo wR="8731" hR="21600" stAng="5701610" swAng="5098390"/>
                <a:close/>
              </a:path>
              <a:path fill="darkenLess" w="21600" h="21600">
                <a:moveTo>
                  <a:pt x="0" y="0"/>
                </a:moveTo>
                <a:arcTo wR="8731" hR="21600" stAng="10800000" swAng="-5400000"/>
                <a:lnTo>
                  <a:pt x="12444" y="21600"/>
                </a:lnTo>
                <a:arcTo wR="8731" hR="21600" stAng="5400000" swAng="301610"/>
                <a:lnTo>
                  <a:pt x="10588" y="21106"/>
                </a:lnTo>
                <a:arcTo wR="8731" hR="21600" stAng="5701610" swAng="509839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3771-107D-4C5F-B933-70E9EC4C3C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620640"/>
            <a:ext cx="720072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МЕТОДИКА ВНЕСЕНИЯ ИЗМ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417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Новая цель: </a:t>
            </a:r>
            <a:r>
              <a:rPr b="1" lang="ru-RU" sz="1400" spc="-1" strike="noStrike">
                <a:solidFill>
                  <a:srgbClr val="17375e"/>
                </a:solidFill>
                <a:latin typeface="Calibri"/>
              </a:rPr>
              <a:t>умение самостоятельно определять цели своего обучения;  умение самостоятельно планировать пути достижения целей;  умение соотносить свои действия с планируемыми результатами, осуществлять контроль своей деятельности;  умение оценивать правильность выполнения учебной задачи, собственные возможности её решения;  владение основами самоконтроля, самооценки, принятия решений и осуществления осознанного выбора в учебной и познавательной деятельност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зменения в образовательном процесс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технологиях: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развивающее обучение, проблемное обучение, учебное исследование,   метод проектов,  личностно-ориентированные проекты в предпрофильной подготовке; формирующее оценивание,  рефлексия   результатов учебной деятельности, портфоли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зменения в обеспечивающих процесса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Организация учебного процесса: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переход на  гибкое расписание учебных занятий  с учетом  потребностей инновационных технологий и обучения на основе ИУ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Методическая работа: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обучение учителей формированию данных метапредметных результатов   ( должны быть освоены: понятия, лежащие в основе результатов,  технологии, позволяющие  сформировать данные результаты, проектирование учебного процесса  в новых технологиях) Индивидуальный план профессионального  развития учителя. Управление саморазвитием учителя через план, ежегодную внутришкольную оценку и аттестацию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Работа с родителями: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заключение договор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B789-9858-4350-9ADA-0CAA478CD5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620640"/>
            <a:ext cx="720072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МЕТОДИКА ВНЕСЕНИЯ ИЗМ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36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00000"/>
                </a:solidFill>
                <a:latin typeface="Calibri"/>
              </a:rPr>
              <a:t>Новая цель: </a:t>
            </a:r>
            <a:r>
              <a:rPr b="1" lang="ru-RU" sz="1700" spc="-1" strike="noStrike">
                <a:solidFill>
                  <a:srgbClr val="17375e"/>
                </a:solidFill>
                <a:latin typeface="Calibri"/>
              </a:rPr>
              <a:t>освоение социальных норм, правил поведения, ролей и форм социальной жизни в группах и сообществах</a:t>
            </a:r>
            <a:r>
              <a:rPr b="0" lang="ru-RU" sz="1700" spc="-1" strike="noStrike">
                <a:solidFill>
                  <a:srgbClr val="17375e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00000"/>
                </a:solidFill>
                <a:latin typeface="Calibri"/>
              </a:rPr>
              <a:t>Изменения в образовательном процессе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00000"/>
                </a:solidFill>
                <a:latin typeface="Calibri"/>
              </a:rPr>
              <a:t>В технологиях учебной и внеучебной деятельности: обучение в сотрудничестве</a:t>
            </a: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,  социальные проекты, практики, волонтерство, система ученического самоуправления: Республика беспокойных сердец, ГОУ (участие школьников в работе органов ГОУ) Деятельность вне школы, коллективные творческие дела, </a:t>
            </a:r>
            <a:r>
              <a:rPr b="1" lang="ru-RU" sz="1700" spc="-1" strike="noStrike">
                <a:solidFill>
                  <a:srgbClr val="c00000"/>
                </a:solidFill>
                <a:latin typeface="Calibri"/>
              </a:rPr>
              <a:t>детско-взрослые проекты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Содержание образования: элективные курсы (тренинги) конфликтология, социальная психологи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00000"/>
                </a:solidFill>
                <a:latin typeface="Calibri"/>
              </a:rPr>
              <a:t>Изменения в обеспечивающих процесса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00000"/>
                </a:solidFill>
                <a:latin typeface="Calibri"/>
              </a:rPr>
              <a:t>Методическая работа: </a:t>
            </a: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психологическое образование учителей в вопросах психологии общения, социальной психологии, вопросах социализации личности, конфликтологии.  Обучение на рабочем месте, переподготовка, стажировки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00000"/>
                </a:solidFill>
                <a:latin typeface="Calibri"/>
              </a:rPr>
              <a:t>Внешние связи школы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Работа с родителями: школа дистанционного обучения для родителей,  совместные детско-взрослые проекты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Социальное партнерство с различными учреждениями и организациями. Договоры, отражение на школьном сайте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73BD-D061-4FCD-B879-A40E70231D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12944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СОПРОТИВЛЕНИЕ ИЗМЕНЕНИ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632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00000"/>
                </a:solidFill>
                <a:latin typeface="Calibri"/>
              </a:rPr>
              <a:t>СОПРОТИВЛЕНИЕ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СКРЫТОЕ ПРОТИВОДЕЙСТВИЕ НОВОМУ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00000"/>
                </a:solidFill>
                <a:latin typeface="Calibri"/>
              </a:rPr>
              <a:t>ПРИЧИНЫ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ТРЕВОЖНОСТЬ, НЕЖЕЛАНИЕ  ТРАТИТЬ ДОПОЛНИТЕЛЬНЫЕ УСИЛИЯ, ИННОВАЦИОННАЯ УСТАЛООСТЬ,  НЕВИДЕНИЕ ПРОБЛЕМ,  УБЕЖДЕННОСТЬ, В ТОМ, ЧТО РЕЗУЛЬТАТЫ УЖЕ ДОСТИГНУТЫ, НЕУВЕРЕННОСТЬ В СЕБЕ ИЛИ ПОЛЬЗЕ НОВШЕСТВА, НЕПОНИМАНИЕ  РАЗНИЦЫ,  ТРУДНОСТИ ПЕРЕСТРОЙКИ, БОЛЬШИЕ ЗАТРАТЫ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1900" spc="-1" strike="noStrike">
                <a:solidFill>
                  <a:srgbClr val="c00000"/>
                </a:solidFill>
                <a:latin typeface="Calibri"/>
              </a:rPr>
              <a:t>ФОРМЫ СОПРОТИВЛЕНИ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ПАРАЛЛЕЛЬНОЕ ВНЕДРЕНИ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ОТЧЕТНОЕ ВНЕДРЕНИ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ВЕЧНЫЙ ЭКСПЕРИМЕНТ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ПОЭЛЕМЕНТНОЕ ВНЕДРЕНИ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00000"/>
                </a:solidFill>
                <a:latin typeface="Calibri"/>
              </a:rPr>
              <a:t>РЕЗУЛЬТАТ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ЗАТУХАНИЕ, ОСТАНОВКА ИННОВАЦИОННОГО ПРОЦЕССА,  НЕ ИНСТИТУАЛИЗИРУЕТСЯ НОВШЕСТВО, ФИЛЬТРАЦИЯ НОВШЕСТВА (ИЗМЕНЕНИЕ СУЩНОСТИ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00000"/>
                </a:solidFill>
                <a:latin typeface="Calibri"/>
              </a:rPr>
              <a:t>ФИЛЬТРЫ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ПРОФЕССИОНАЛЬНОЕ СООБЩЕСТВО, МАССОВОЕ СОЗНАНИЕ, ВЛАСТЬ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53C8-1F83-496F-8459-07338ED11E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00" y="2000160"/>
            <a:ext cx="80629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TextBox 3" descr=""/>
          <p:cNvPicPr/>
          <p:nvPr/>
        </p:nvPicPr>
        <p:blipFill>
          <a:blip r:embed="rId1"/>
          <a:stretch/>
        </p:blipFill>
        <p:spPr>
          <a:xfrm>
            <a:off x="85680" y="6102360"/>
            <a:ext cx="1773360" cy="6332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шапка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41672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ВИДЫ ИННОВАЦ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813744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7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alibri"/>
              </a:rPr>
              <a:t>НОВШЕСТВ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-  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это  средство, введение которого в образовательную систему, при соответствующем использовании, способно улучшить результаты ее работ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alibri"/>
              </a:rPr>
              <a:t>СОДЕРЖАТЕЛЬНЫ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НОВАЯ  МЕТОДОЛОГИЯ ОБРАЗОВАНИЯ: СИСТЕМНО-ДЕЯТЕЛЬНОСТНЫЙ ПОДХ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НОВЫЕ ЦЕЛИ ОБРАЗОВАНИЯ: ПРЕДМЕТНЫЕ, МЕТАПРЕДМЕТНЫЕ, ЛИЧНОСТНЫ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НОВОЕ СОДЕРЖАНИЕ ОБРАЗОВАНИЯ:  УЧЕБНАЯ ДЕЯТЕЛЬНОСТЬ И ВНЕУЧЕБНАЯ ДЕЯТЕЛЬНОСТ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ОБРАЗОВАНИЕ КАК ОБЩЕСТВЕННЫЙ ДОГОВОР, ШКОЛА КАК ПЕРЕГОВОРНАЯ ПЛОЩАД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ВАРИАТИВНОСТЬ И ИНДИВИДУАЛИЗАЦИЯ ОБРАЗОВАН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ПРОЕКТНАЯ ДЕЯТЕЛЬНОСТЬ КАК ОСНОВА ИНТЕГРАЦИИ ЗНАНИЙ И ФОРМИРОВАНИЯ УЧЕБНОЙ ДЕЯТЕЛЬНОСТИ - СОЦИАЛЬНЫЕ, ИССЛЕДОВАТЕЛЬСКИЕ ПРОЕКТЫ И ПРАКТИКИ ШКОЛЬНИК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ОБУЧЕНИЕ В СОТРУДНИЧЕСТВЕ КАК ПРИНЦИП И КАК ТЕХНОЛОГ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ДЕМОКРАТИЧЕСКИЙ УКЛАД ШКОЛЬНОЙ ЖИЗНИ НА ВСЕХ УРОВНЯ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ЦИФРОВАЯ ШКОЛ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КОМПЕТЕНТНОСТЬ РОДИТЕЛ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alibri"/>
              </a:rPr>
              <a:t>ИНСТРУМЕНТАЛЬНЫ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Программы и планы: учебный план,  основная образовательная программа школы, рабочие программы учител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Информационные технолог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НСО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САЙТ ШКОЛЫ, ОТКРЫТЫЙ  ШКОЛЬНЫЙ ДОКЛА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662E-CA3D-440A-89F6-1EBF611804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Проблемы работы  педагогических коллектив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528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реимущественное внимание уделяется инструментальным новшествам – ООП школ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Не разрабатывается перечень изменений, который должен привести к достижению новых результатов образов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Деятельностный подход отождествляется с использованием активных методов и групповой работы;  учителя не владеют  методами организации учебной деятельности школьников.   Школы недостаточно работают над переходом  к формирующему контролю  и оценке результатов учебной деятельности.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роблема социализации и снижения рисков социализации не рассматривается школой как собственная  актуальная проблема.     Социальные практики, проекты,   работа детских организаций, волонтерство и др. методы недостаточно направлены на решение  этих це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охраняется авторитаризм и  конфликтность вместо диалога .  Сопротивление,  недостаток эффективных средств для преобразование школы  в институт воспитания толерантнос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едленно идет переход на обучение по ИУП, в том числе в старшей школ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B935-5FC4-4C10-AED8-D139033176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Какие изменения нужны в школе в связи с переходом на работу по ФГОС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Какие научно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-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методические условия необходимы для осуществления измен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Как их созда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7"/>
          <p:cNvSpPr/>
          <p:nvPr/>
        </p:nvSpPr>
        <p:spPr>
          <a:xfrm>
            <a:off x="0" y="285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Метод анализа  и определения необходимых изме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1428840" y="1143000"/>
            <a:ext cx="2571840" cy="1285920"/>
          </a:xfrm>
          <a:prstGeom prst="rect">
            <a:avLst/>
          </a:prstGeom>
          <a:solidFill>
            <a:srgbClr val="c3d69b"/>
          </a:solidFill>
          <a:ln w="4140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857160" y="1143000"/>
            <a:ext cx="214560" cy="4929120"/>
          </a:xfrm>
          <a:prstGeom prst="downArrow">
            <a:avLst>
              <a:gd name="adj1" fmla="val 50000"/>
              <a:gd name="adj2" fmla="val 412772"/>
            </a:avLst>
          </a:prstGeom>
          <a:gradFill rotWithShape="0">
            <a:gsLst>
              <a:gs pos="0">
                <a:srgbClr val="77933c"/>
              </a:gs>
              <a:gs pos="100000">
                <a:srgbClr val="558ed5"/>
              </a:gs>
            </a:gsLst>
            <a:lin ang="5400000"/>
          </a:gradFill>
          <a:ln w="284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9"/>
          <p:cNvSpPr/>
          <p:nvPr/>
        </p:nvSpPr>
        <p:spPr>
          <a:xfrm>
            <a:off x="4643280" y="1571760"/>
            <a:ext cx="447840" cy="428400"/>
          </a:xfrm>
          <a:prstGeom prst="ellipse">
            <a:avLst/>
          </a:prstGeom>
          <a:solidFill>
            <a:srgbClr val="ffffff"/>
          </a:solidFill>
          <a:ln w="3492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7"/>
          <p:cNvSpPr/>
          <p:nvPr/>
        </p:nvSpPr>
        <p:spPr>
          <a:xfrm>
            <a:off x="4643280" y="13572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0"/>
          <p:cNvSpPr/>
          <p:nvPr/>
        </p:nvSpPr>
        <p:spPr>
          <a:xfrm>
            <a:off x="928800" y="1143000"/>
            <a:ext cx="32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Arial"/>
              </a:rPr>
              <a:t>Существующие и реализуем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Arial"/>
              </a:rPr>
              <a:t>результаты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1428840" y="2857680"/>
            <a:ext cx="2571840" cy="1285560"/>
          </a:xfrm>
          <a:prstGeom prst="rect">
            <a:avLst/>
          </a:prstGeom>
          <a:solidFill>
            <a:srgbClr val="d99694"/>
          </a:solidFill>
          <a:ln w="4140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2"/>
          <p:cNvSpPr/>
          <p:nvPr/>
        </p:nvSpPr>
        <p:spPr>
          <a:xfrm>
            <a:off x="1000080" y="2928960"/>
            <a:ext cx="32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Arial"/>
              </a:rPr>
              <a:t>Существую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Arial"/>
              </a:rPr>
              <a:t>процесс образования: содержание и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1428840" y="4643280"/>
            <a:ext cx="2571840" cy="1285920"/>
          </a:xfrm>
          <a:prstGeom prst="rect">
            <a:avLst/>
          </a:prstGeom>
          <a:solidFill>
            <a:srgbClr val="8eb4e3"/>
          </a:solidFill>
          <a:ln w="4140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5786280" y="4643280"/>
            <a:ext cx="2643480" cy="1357560"/>
          </a:xfrm>
          <a:prstGeom prst="rect">
            <a:avLst/>
          </a:prstGeom>
          <a:solidFill>
            <a:srgbClr val="c6d9f1"/>
          </a:solidFill>
          <a:ln w="4140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5786280" y="1143000"/>
            <a:ext cx="2571840" cy="1285920"/>
          </a:xfrm>
          <a:prstGeom prst="rect">
            <a:avLst/>
          </a:prstGeom>
          <a:solidFill>
            <a:srgbClr val="ebf1de"/>
          </a:solidFill>
          <a:ln w="4140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5786280" y="2928960"/>
            <a:ext cx="2571840" cy="1285920"/>
          </a:xfrm>
          <a:prstGeom prst="rect">
            <a:avLst/>
          </a:prstGeom>
          <a:solidFill>
            <a:srgbClr val="f2dcdb"/>
          </a:solidFill>
          <a:ln w="4140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7"/>
          <p:cNvSpPr/>
          <p:nvPr/>
        </p:nvSpPr>
        <p:spPr>
          <a:xfrm>
            <a:off x="642960" y="4643280"/>
            <a:ext cx="378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Arial"/>
              </a:rPr>
              <a:t>Существующ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Arial"/>
              </a:rPr>
              <a:t>ресурсы: кадровые, учебники, программы, оборудование кабин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8"/>
          <p:cNvSpPr/>
          <p:nvPr/>
        </p:nvSpPr>
        <p:spPr>
          <a:xfrm>
            <a:off x="5214960" y="1214280"/>
            <a:ext cx="344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Arial"/>
              </a:rPr>
              <a:t>Требования ФГ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Arial"/>
              </a:rPr>
              <a:t>к планируемым  результа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9"/>
          <p:cNvSpPr/>
          <p:nvPr/>
        </p:nvSpPr>
        <p:spPr>
          <a:xfrm>
            <a:off x="5286240" y="2857680"/>
            <a:ext cx="328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Arial"/>
              </a:rPr>
              <a:t>Требования ФГОС к процессу образования: содержание и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0"/>
          <p:cNvSpPr/>
          <p:nvPr/>
        </p:nvSpPr>
        <p:spPr>
          <a:xfrm>
            <a:off x="5286240" y="4643280"/>
            <a:ext cx="3286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Arial"/>
              </a:rPr>
              <a:t>Требования ФГОС к ресурсам: кадровым, учебникам, программы, оборудование кабин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9"/>
          <p:cNvSpPr/>
          <p:nvPr/>
        </p:nvSpPr>
        <p:spPr>
          <a:xfrm>
            <a:off x="4643280" y="3286080"/>
            <a:ext cx="447840" cy="428760"/>
          </a:xfrm>
          <a:prstGeom prst="ellipse">
            <a:avLst/>
          </a:prstGeom>
          <a:solidFill>
            <a:srgbClr val="ffffff"/>
          </a:solidFill>
          <a:ln w="3492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2"/>
          <p:cNvSpPr/>
          <p:nvPr/>
        </p:nvSpPr>
        <p:spPr>
          <a:xfrm>
            <a:off x="4643280" y="30718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9"/>
          <p:cNvSpPr/>
          <p:nvPr/>
        </p:nvSpPr>
        <p:spPr>
          <a:xfrm>
            <a:off x="4643280" y="5072040"/>
            <a:ext cx="447840" cy="428760"/>
          </a:xfrm>
          <a:prstGeom prst="ellipse">
            <a:avLst/>
          </a:prstGeom>
          <a:solidFill>
            <a:srgbClr val="ffffff"/>
          </a:solidFill>
          <a:ln w="3492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4"/>
          <p:cNvSpPr/>
          <p:nvPr/>
        </p:nvSpPr>
        <p:spPr>
          <a:xfrm>
            <a:off x="4643280" y="48578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TextBox 21" descr=""/>
          <p:cNvPicPr/>
          <p:nvPr/>
        </p:nvPicPr>
        <p:blipFill>
          <a:blip r:embed="rId1"/>
          <a:stretch/>
        </p:blipFill>
        <p:spPr>
          <a:xfrm>
            <a:off x="493560" y="493560"/>
            <a:ext cx="567000" cy="5870880"/>
          </a:xfrm>
          <a:prstGeom prst="rect">
            <a:avLst/>
          </a:prstGeom>
          <a:ln w="0">
            <a:noFill/>
          </a:ln>
        </p:spPr>
      </p:pic>
      <p:sp>
        <p:nvSpPr>
          <p:cNvPr id="79" name="Номер слайда 2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E4E3-15F7-437A-9BE5-7F4AC7B6AD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 Black"/>
              </a:rPr>
              <a:t>Анализ результа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 Black"/>
              </a:rPr>
              <a:t>Анализ </a:t>
            </a:r>
            <a:r>
              <a:rPr b="0" lang="ru-RU" sz="3200" spc="-1" strike="noStrike">
                <a:solidFill>
                  <a:srgbClr val="e20000"/>
                </a:solidFill>
                <a:latin typeface="Arial Black"/>
              </a:rPr>
              <a:t>предметных</a:t>
            </a:r>
            <a:r>
              <a:rPr b="0" lang="ru-RU" sz="3200" spc="-1" strike="noStrike">
                <a:solidFill>
                  <a:srgbClr val="1f497d"/>
                </a:solidFill>
                <a:latin typeface="Arial Black"/>
              </a:rPr>
              <a:t> результа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 Black"/>
              </a:rPr>
              <a:t>Анализ </a:t>
            </a:r>
            <a:r>
              <a:rPr b="0" lang="ru-RU" sz="3200" spc="-1" strike="noStrike">
                <a:solidFill>
                  <a:srgbClr val="e20000"/>
                </a:solidFill>
                <a:latin typeface="Arial Black"/>
              </a:rPr>
              <a:t>метапредметных </a:t>
            </a:r>
            <a:r>
              <a:rPr b="0" lang="ru-RU" sz="3200" spc="-1" strike="noStrike">
                <a:solidFill>
                  <a:srgbClr val="1f497d"/>
                </a:solidFill>
                <a:latin typeface="Arial Black"/>
              </a:rPr>
              <a:t>результа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 Black"/>
              </a:rPr>
              <a:t>Анализ </a:t>
            </a:r>
            <a:r>
              <a:rPr b="0" lang="ru-RU" sz="3200" spc="-1" strike="noStrike">
                <a:solidFill>
                  <a:srgbClr val="e20000"/>
                </a:solidFill>
                <a:latin typeface="Arial Black"/>
              </a:rPr>
              <a:t>личностных </a:t>
            </a:r>
            <a:r>
              <a:rPr b="0" lang="ru-RU" sz="3200" spc="-1" strike="noStrike">
                <a:solidFill>
                  <a:srgbClr val="1f497d"/>
                </a:solidFill>
                <a:latin typeface="Arial Black"/>
              </a:rPr>
              <a:t>результа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 Black"/>
              </a:rPr>
              <a:t>  </a:t>
            </a:r>
            <a:r>
              <a:rPr b="0" lang="ru-RU" sz="3200" spc="-1" strike="noStrike">
                <a:solidFill>
                  <a:srgbClr val="1f497d"/>
                </a:solidFill>
                <a:latin typeface="Arial Black"/>
              </a:rPr>
              <a:t>Определить те</a:t>
            </a:r>
            <a:r>
              <a:rPr b="0" lang="en-US" sz="3200" spc="-1" strike="noStrike">
                <a:solidFill>
                  <a:srgbClr val="1f497d"/>
                </a:solidFill>
                <a:latin typeface="Arial Black"/>
              </a:rPr>
              <a:t>,</a:t>
            </a:r>
            <a:r>
              <a:rPr b="0" lang="ru-RU" sz="3200" spc="-1" strike="noStrike">
                <a:solidFill>
                  <a:srgbClr val="1f497d"/>
                </a:solidFill>
                <a:latin typeface="Arial Black"/>
              </a:rPr>
              <a:t> которые в предыдущие годы либо не ставились</a:t>
            </a:r>
            <a:r>
              <a:rPr b="0" lang="en-US" sz="3200" spc="-1" strike="noStrike">
                <a:solidFill>
                  <a:srgbClr val="1f497d"/>
                </a:solidFill>
                <a:latin typeface="Arial Black"/>
              </a:rPr>
              <a:t>,</a:t>
            </a:r>
            <a:r>
              <a:rPr b="0" lang="ru-RU" sz="3200" spc="-1" strike="noStrike">
                <a:solidFill>
                  <a:srgbClr val="1f497d"/>
                </a:solidFill>
                <a:latin typeface="Arial Black"/>
              </a:rPr>
              <a:t> либо ставились</a:t>
            </a:r>
            <a:r>
              <a:rPr b="0" lang="en-US" sz="3200" spc="-1" strike="noStrike">
                <a:solidFill>
                  <a:srgbClr val="1f497d"/>
                </a:solidFill>
                <a:latin typeface="Arial Black"/>
              </a:rPr>
              <a:t>,</a:t>
            </a:r>
            <a:r>
              <a:rPr b="0" lang="ru-RU" sz="3200" spc="-1" strike="noStrike">
                <a:solidFill>
                  <a:srgbClr val="1f497d"/>
                </a:solidFill>
                <a:latin typeface="Arial Black"/>
              </a:rPr>
              <a:t> но не достигали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274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Личностные результаты освоения 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 основной образовательной программ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6000" y="1483920"/>
            <a:ext cx="763272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lnSpc>
                <a:spcPct val="80000"/>
              </a:lnSpc>
              <a:spcBef>
                <a:spcPts val="400"/>
              </a:spcBef>
              <a:buClr>
                <a:srgbClr val="17375e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75e"/>
                </a:solidFill>
                <a:latin typeface="Arial Black"/>
              </a:rPr>
              <a:t>воспитание российской гражданской идентич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80000"/>
              </a:lnSpc>
              <a:spcBef>
                <a:spcPts val="400"/>
              </a:spcBef>
              <a:buClr>
                <a:srgbClr val="17375e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75e"/>
                </a:solidFill>
                <a:latin typeface="Arial Black"/>
              </a:rPr>
              <a:t>формирование ответственного отношения к учени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80000"/>
              </a:lnSpc>
              <a:spcBef>
                <a:spcPts val="400"/>
              </a:spcBef>
              <a:buClr>
                <a:srgbClr val="17375e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75e"/>
                </a:solidFill>
                <a:latin typeface="Arial Black"/>
              </a:rPr>
              <a:t>формирование целостного мировоззр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80000"/>
              </a:lnSpc>
              <a:spcBef>
                <a:spcPts val="400"/>
              </a:spcBef>
              <a:buClr>
                <a:srgbClr val="17375e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75e"/>
                </a:solidFill>
                <a:latin typeface="Arial Black"/>
              </a:rPr>
              <a:t>формирование осознанного, уважительного и доброжелательного отношения</a:t>
            </a:r>
            <a:r>
              <a:rPr b="0" lang="en-US" sz="1600" spc="-1" strike="noStrike">
                <a:solidFill>
                  <a:srgbClr val="17375e"/>
                </a:solidFill>
                <a:latin typeface="Arial Black"/>
              </a:rPr>
              <a:t> </a:t>
            </a:r>
            <a:r>
              <a:rPr b="1" lang="en-US" sz="1600" spc="-1" strike="noStrike">
                <a:solidFill>
                  <a:srgbClr val="17375e"/>
                </a:solidFill>
                <a:latin typeface="Arial Black"/>
              </a:rPr>
              <a:t>к другому человеку</a:t>
            </a:r>
            <a:r>
              <a:rPr b="0" lang="en-US" sz="1600" spc="-1" strike="noStrike">
                <a:solidFill>
                  <a:srgbClr val="17375e"/>
                </a:solidFill>
                <a:latin typeface="Arial Black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80000"/>
              </a:lnSpc>
              <a:spcBef>
                <a:spcPts val="400"/>
              </a:spcBef>
              <a:buClr>
                <a:srgbClr val="17375e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75e"/>
                </a:solidFill>
                <a:latin typeface="Arial Black"/>
              </a:rPr>
              <a:t>освоение социальных норм, правил поведения, ролей и форм социальной жизни в группах и сообществах</a:t>
            </a:r>
            <a:r>
              <a:rPr b="0" lang="en-US" sz="1600" spc="-1" strike="noStrike">
                <a:solidFill>
                  <a:srgbClr val="17375e"/>
                </a:solidFill>
                <a:latin typeface="Arial Black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80000"/>
              </a:lnSpc>
              <a:spcBef>
                <a:spcPts val="400"/>
              </a:spcBef>
              <a:buClr>
                <a:srgbClr val="17375e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75e"/>
                </a:solidFill>
                <a:latin typeface="Arial Black"/>
              </a:rPr>
              <a:t>развитие морального сознания и компетентности в решении моральных проблем</a:t>
            </a:r>
            <a:r>
              <a:rPr b="0" lang="en-US" sz="1600" spc="-1" strike="noStrike">
                <a:solidFill>
                  <a:srgbClr val="17375e"/>
                </a:solidFill>
                <a:latin typeface="Arial Black"/>
              </a:rPr>
              <a:t> </a:t>
            </a:r>
            <a:r>
              <a:rPr b="1" lang="en-US" sz="1600" spc="-1" strike="noStrike">
                <a:solidFill>
                  <a:srgbClr val="17375e"/>
                </a:solidFill>
                <a:latin typeface="Arial Black"/>
              </a:rPr>
              <a:t>на основе личностного выбора, формирование нравственных чувств и нравственного поведения</a:t>
            </a:r>
            <a:r>
              <a:rPr b="0" lang="en-US" sz="1600" spc="-1" strike="noStrike">
                <a:solidFill>
                  <a:srgbClr val="17375e"/>
                </a:solidFill>
                <a:latin typeface="Arial Black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80000"/>
              </a:lnSpc>
              <a:spcBef>
                <a:spcPts val="400"/>
              </a:spcBef>
              <a:buClr>
                <a:srgbClr val="17375e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75e"/>
                </a:solidFill>
                <a:latin typeface="Arial Black"/>
              </a:rPr>
              <a:t>формирование коммуникативной компетентности</a:t>
            </a:r>
            <a:r>
              <a:rPr b="0" lang="en-US" sz="1600" spc="-1" strike="noStrike">
                <a:solidFill>
                  <a:srgbClr val="17375e"/>
                </a:solidFill>
                <a:latin typeface="Arial Black"/>
              </a:rPr>
              <a:t> </a:t>
            </a:r>
            <a:r>
              <a:rPr b="1" lang="en-US" sz="1600" spc="-1" strike="noStrike">
                <a:solidFill>
                  <a:srgbClr val="17375e"/>
                </a:solidFill>
                <a:latin typeface="Arial Black"/>
              </a:rPr>
              <a:t>в общении</a:t>
            </a:r>
            <a:r>
              <a:rPr b="0" lang="en-US" sz="1600" spc="-1" strike="noStrike">
                <a:solidFill>
                  <a:srgbClr val="17375e"/>
                </a:solidFill>
                <a:latin typeface="Arial Black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80000"/>
              </a:lnSpc>
              <a:spcBef>
                <a:spcPts val="400"/>
              </a:spcBef>
              <a:buClr>
                <a:srgbClr val="17375e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75e"/>
                </a:solidFill>
                <a:latin typeface="Arial Black"/>
              </a:rPr>
              <a:t>формирование ценности здорового и безопасного образа жизни;</a:t>
            </a:r>
            <a:r>
              <a:rPr b="0" lang="en-US" sz="1600" spc="-1" strike="noStrike">
                <a:solidFill>
                  <a:srgbClr val="17375e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80000"/>
              </a:lnSpc>
              <a:spcBef>
                <a:spcPts val="400"/>
              </a:spcBef>
              <a:buClr>
                <a:srgbClr val="17375e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75e"/>
                </a:solidFill>
                <a:latin typeface="Arial Black"/>
              </a:rPr>
              <a:t>формирование основ экологической культуры</a:t>
            </a:r>
            <a:r>
              <a:rPr b="0" lang="en-US" sz="1600" spc="-1" strike="noStrike">
                <a:solidFill>
                  <a:srgbClr val="17375e"/>
                </a:solidFill>
                <a:latin typeface="Arial Black"/>
              </a:rPr>
              <a:t> </a:t>
            </a:r>
            <a:r>
              <a:rPr b="1" lang="en-US" sz="1600" spc="-1" strike="noStrike">
                <a:solidFill>
                  <a:srgbClr val="17375e"/>
                </a:solidFill>
                <a:latin typeface="Arial Black"/>
              </a:rPr>
              <a:t>соответствующей современному уровню экологического мышления</a:t>
            </a:r>
            <a:r>
              <a:rPr b="0" lang="en-US" sz="1600" spc="-1" strike="noStrike">
                <a:solidFill>
                  <a:srgbClr val="17375e"/>
                </a:solidFill>
                <a:latin typeface="Arial Black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80000"/>
              </a:lnSpc>
              <a:spcBef>
                <a:spcPts val="400"/>
              </a:spcBef>
              <a:buClr>
                <a:srgbClr val="17375e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75e"/>
                </a:solidFill>
                <a:latin typeface="Arial Black"/>
              </a:rPr>
              <a:t>осознание значения семьи в жизни человека и общества</a:t>
            </a:r>
            <a:r>
              <a:rPr b="0" lang="en-US" sz="1600" spc="-1" strike="noStrike">
                <a:solidFill>
                  <a:srgbClr val="17375e"/>
                </a:solidFill>
                <a:latin typeface="Arial Black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80000"/>
              </a:lnSpc>
              <a:spcBef>
                <a:spcPts val="400"/>
              </a:spcBef>
              <a:buClr>
                <a:srgbClr val="17375e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75e"/>
                </a:solidFill>
                <a:latin typeface="Arial Black"/>
              </a:rPr>
              <a:t>развитие эстетического сознания</a:t>
            </a:r>
            <a:r>
              <a:rPr b="0" lang="en-US" sz="1600" spc="-1" strike="noStrike">
                <a:solidFill>
                  <a:srgbClr val="17375e"/>
                </a:solidFill>
                <a:latin typeface="Arial Black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5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E94A-763D-4B26-A453-A3EFF3BD2F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 Black"/>
              </a:rPr>
              <a:t>Алгорит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 Black"/>
              </a:rPr>
              <a:t>Определить </a:t>
            </a:r>
            <a:r>
              <a:rPr b="0" lang="ru-RU" sz="2800" spc="-1" strike="noStrike">
                <a:solidFill>
                  <a:srgbClr val="e20000"/>
                </a:solidFill>
                <a:latin typeface="Arial Black"/>
              </a:rPr>
              <a:t>новые результа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 Black"/>
              </a:rPr>
              <a:t>Разработать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e20000"/>
                </a:solidFill>
                <a:latin typeface="Arial Black"/>
              </a:rPr>
              <a:t>способы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1f497d"/>
                </a:solidFill>
                <a:latin typeface="Arial Black"/>
              </a:rPr>
              <a:t>их достиж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 Black"/>
              </a:rPr>
              <a:t>Разработать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e20000"/>
                </a:solidFill>
                <a:latin typeface="Arial Black"/>
              </a:rPr>
              <a:t>КИМы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1f497d"/>
                </a:solidFill>
                <a:latin typeface="Arial Black"/>
              </a:rPr>
              <a:t>для измерения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1f497d"/>
                </a:solidFill>
                <a:latin typeface="Arial Black"/>
              </a:rPr>
              <a:t>получаемых результа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20000"/>
                </a:solidFill>
                <a:latin typeface="Arial Black"/>
              </a:rPr>
              <a:t>Модели методы техноло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20000"/>
                </a:solidFill>
                <a:latin typeface="Arial Black"/>
              </a:rPr>
              <a:t>Пособия методические рекомендации сборники статей отдельные стать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20000"/>
                </a:solidFill>
                <a:latin typeface="Arial Black"/>
              </a:rPr>
              <a:t>Программы </a:t>
            </a:r>
            <a:r>
              <a:rPr b="0" lang="ru-RU" sz="2800" spc="-1" strike="noStrike">
                <a:solidFill>
                  <a:srgbClr val="1f497d"/>
                </a:solidFill>
                <a:latin typeface="Arial Black"/>
              </a:rPr>
              <a:t>курсов П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 Black"/>
              </a:rPr>
              <a:t>Приорит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 Black"/>
              </a:rPr>
              <a:t>Компетенция в области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e20000"/>
                </a:solidFill>
                <a:latin typeface="Arial Black"/>
              </a:rPr>
              <a:t>учебной деятельност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 Black"/>
              </a:rPr>
              <a:t>Компетенции в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e20000"/>
                </a:solidFill>
                <a:latin typeface="Arial Black"/>
              </a:rPr>
              <a:t>предметных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Arial Black"/>
              </a:rPr>
              <a:t>област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 Black"/>
              </a:rPr>
              <a:t>Целостное научное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e20000"/>
                </a:solidFill>
                <a:latin typeface="Arial Black"/>
              </a:rPr>
              <a:t>мировоззр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00"/>
                </a:solidFill>
                <a:latin typeface="Arial Black"/>
              </a:rPr>
              <a:t>Коммуникативная и коммуникационная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Arial Black"/>
              </a:rPr>
              <a:t>компетент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00"/>
                </a:solidFill>
                <a:latin typeface="Arial Black"/>
              </a:rPr>
              <a:t>Социальные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Arial Black"/>
              </a:rPr>
              <a:t>компетен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11:36:51Z</dcterms:created>
  <dc:creator>miheeva</dc:creator>
  <dc:description/>
  <dc:language>en-US</dc:language>
  <cp:lastModifiedBy>Book-3</cp:lastModifiedBy>
  <dcterms:modified xsi:type="dcterms:W3CDTF">2012-12-12T17:55:48Z</dcterms:modified>
  <cp:revision>171</cp:revision>
  <dc:subject/>
  <dc:title>Слайд 1</dc:title>
</cp:coreProperties>
</file>