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1DB-E995-4A59-9460-1D72A171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76A-37F1-498A-96D9-18AEE7AC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AE6-FCB7-4F13-9442-52B99A1D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FC9-0988-4871-A527-377522A8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8FC-B25C-400A-AB22-CC4CCCE8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116-C8AD-4EB8-8469-42BC1272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DD6-1E78-4F36-8C60-A4B5EEDD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733-04E6-4CB2-8DFC-255189CA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52B-0B9F-4325-ABB2-E441CD03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DCB-FDB1-4D1C-B2EC-3A277509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C05-77E6-46F5-99C0-6216A2C5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9F8-8CAD-4F04-A7EF-1790E1AE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5259-485C-4C37-B190-E340F2B05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сетевого взаимодействия ПП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кова Марина Василь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ст МБОУ ДПОВ «ЦИТО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Александров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br>
              <a:rPr sz="40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6483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е к подготовке введения ФГОС ООО на разных уровнях (разный подход к организации деятельности Управления образования и ММ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4956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ООП ООО (в т.ч работа административных коман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2749680"/>
          <a:ext cx="8686800" cy="4108320"/>
        </p:xfrm>
        <a:graphic>
          <a:graphicData uri="http://schemas.openxmlformats.org/drawingml/2006/table">
            <a:tbl>
              <a:tblPr/>
              <a:tblGrid>
                <a:gridCol w="3024000"/>
                <a:gridCol w="56628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вождение чере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апробационных площадо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у методистов ММС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ит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ТО (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я Образования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административный ресурс, определяющий муниципальный заказ, в который не включены вопросы подготовки введения ФГОС О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С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рекомендательный харак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ая служ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 ОУ находится в подчинении Управления образования, выполняет муниципальный за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ует работу педагогов в данном направлении, но отсутствует систе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РМО, ШМ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br>
              <a:rPr sz="40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й уровень готовности руководителей РМ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е все готовы заниматься разработкой собственных материалов, используют чужие материа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е подход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кие как соответствие заданной структуре, использование определенных приемов и технологий и пр. – анализ результатов апробации материалов РМО будет проведен на занятиях Летней школы руководителей РМО, предполагается дальнейшая их корректиров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тентность методист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еобходимо привлечение специалистов в ОУ для разработки ОО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ство на портале Образова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одействие всех уровней, в т.ч. включение ОУ в работу апробационных площа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ММС в условиях подготовки введения ФГОС ОО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ие ФГОС ООО - это сложный и многоплановый процесс, и  важнейшим фактором, обеспечивающим его успешность, является системность подготовки к его внедрению и комплексность использования всех видов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у необходимо сформулировать собственную педагогическую концепцию, определить новый стиль собственной педагогической деятельности, выстроить технологические алгоритмы реализации целей и задач, освоить определенные собственной концепцией технологические приемы и создать адекватные задачам организационно-педагогические условия достижения поставленных целей (планируемых ФГОС ООО результатов обуч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словиях перехода на ФГОС ООО необходимо обеспечить такую готовность и учителей, и руководителей, чтобы уровень освоения ФГОС ООО был достаточен для того, чтобы их не исказить и не свести на нет. Поэтому в этот период так важны квалифицированная помощь и методическое сопровождение, как для педагога, так  и школьного управле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ивореч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внедрения ФГОС ООО и недостаточной профессиональной готовностью педагогов и руководителей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методического сопровождения введения ФГОС ООО муниципальной методической службой и неразработанность эффективных моделей и механизм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ворческих коллективов педагогов и административных команд на муниципальном уровне для решения конкретных задач по подготовке к введению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ханизм сетевого взаимо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ст осуществляет сопровождение деятельности РМО через руко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организует работу педагогов РМО по общему пл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Diagram 7"/>
          <p:cNvGrpSpPr/>
          <p:nvPr/>
        </p:nvGrpSpPr>
        <p:grpSpPr>
          <a:xfrm>
            <a:off x="620640" y="2147400"/>
            <a:ext cx="2949480" cy="2773800"/>
            <a:chOff x="620640" y="2147400"/>
            <a:chExt cx="2949480" cy="2773800"/>
          </a:xfrm>
        </p:grpSpPr>
        <p:sp>
          <p:nvSpPr>
            <p:cNvPr id="52" name="_s1028"/>
            <p:cNvSpPr/>
            <p:nvPr/>
          </p:nvSpPr>
          <p:spPr>
            <a:xfrm flipH="1">
              <a:off x="1385640" y="4066920"/>
              <a:ext cx="354960" cy="21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29"/>
            <p:cNvSpPr/>
            <p:nvPr/>
          </p:nvSpPr>
          <p:spPr>
            <a:xfrm>
              <a:off x="620640" y="4068360"/>
              <a:ext cx="819720" cy="8528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РМО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0"/>
            <p:cNvSpPr/>
            <p:nvPr/>
          </p:nvSpPr>
          <p:spPr>
            <a:xfrm>
              <a:off x="2449440" y="4068360"/>
              <a:ext cx="356040" cy="21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1"/>
            <p:cNvSpPr/>
            <p:nvPr/>
          </p:nvSpPr>
          <p:spPr>
            <a:xfrm>
              <a:off x="2750400" y="4068360"/>
              <a:ext cx="819720" cy="8528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РМО 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2"/>
            <p:cNvSpPr/>
            <p:nvPr/>
          </p:nvSpPr>
          <p:spPr>
            <a:xfrm flipV="1">
              <a:off x="2095560" y="3000600"/>
              <a:ext cx="0" cy="42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3"/>
            <p:cNvSpPr/>
            <p:nvPr/>
          </p:nvSpPr>
          <p:spPr>
            <a:xfrm>
              <a:off x="1685520" y="2147400"/>
              <a:ext cx="819720" cy="8528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РМО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4"/>
            <p:cNvSpPr/>
            <p:nvPr/>
          </p:nvSpPr>
          <p:spPr>
            <a:xfrm>
              <a:off x="1685520" y="3428280"/>
              <a:ext cx="819720" cy="853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ЦИТ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600200"/>
          <a:ext cx="7924680" cy="50371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яя школа руководителей ППО (РМО, ШМО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12 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материалов ФГ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 «Критерии урока. Анализ уро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щания, консультации руководителей Р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огласов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ние и коррекция работы Р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дания Р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графи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айтов Р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щение и обсуждение материалов с заседаний, уроков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авления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ные для обсуждения в рамках работы Лет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разработк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ектов для последующего формир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П О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, проведение и анализ инновационных форм  учебных занятий (критерии, анализ метапредметного ур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ирование системы оценки достижения планируемых результатов освоения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авления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нные в результате 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астие в разработке ООП ООО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013-2014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, проведение и анализ инновационных форм  учебных занятий (критерии, анализ метапредметного уро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012-2013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ирование системы оценки достижения планируемых результатов освоения ОО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013-2014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й план работы Р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семинар «Требования к уроку в соответствии с ФГО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териалы 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апредметн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итерии урока, схема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инар - практикум «Урок в соответствии с ФГО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смотр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з и самоанализ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6:11:56Z</dcterms:created>
  <dc:creator>пк</dc:creator>
  <dc:description/>
  <dc:language>en-US</dc:language>
  <cp:lastModifiedBy>User</cp:lastModifiedBy>
  <dcterms:modified xsi:type="dcterms:W3CDTF">2012-12-11T19:22:2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