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5E8-2249-45BE-AC19-7AA9E6BD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8DA-7A43-4A31-A2E1-416F19E0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40A-37D8-4F83-8B5B-ACF99E24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EE4-7D52-4602-980A-0C697AD0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D83-53BD-4D35-888E-C3440D62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F87-6FDF-4ED4-AC4D-62AC007B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E97-8FBA-4146-9E7B-2ECC64A4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184-B191-4AF3-BB07-2C255FB1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BC1-0D62-4646-A68A-C1EB3FC3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D39-EAD9-4DB9-A0EC-F1BF80C9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48B-34C4-4B18-9270-BAE6E724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73E-6E18-40AD-9F75-A9607165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E708-FD7A-4F6A-AF78-C025D1194F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2920" y="2130120"/>
            <a:ext cx="7054920" cy="18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организовать методическое пространство для обучения педагогов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4076280"/>
            <a:ext cx="6840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ли «методический конструкто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которые выво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76360" y="2133720"/>
            <a:ext cx="7221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ю необходимо научиться чувствовать и быть полноправным участником, соавтором основной общеобразовательной программы. Лучший способ –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частие в проектировании образовательной деятельности или педагогическое проект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Управляющая кнопка: назад 3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нструмент для организации повышения квалифик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92360" y="162864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етодический конструктор» - принцип и механизм формирования и исполнения заказа педагога на повышение квалификации при введении ФГОС ООО, который учитывает индивидуальные потребности и возможности педаго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дачи методической служб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63280" y="1916280"/>
            <a:ext cx="6923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ициировать инновационные процессы: создать ситуацию, когда педагоги и руководители ОУ захотят учиться (н-р, поставлена цель - проектировать новые управленческие, образовательные практики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дачи методической служб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19280" y="2133360"/>
            <a:ext cx="70675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овать обсуждение стратегии подготовки ОУ к введению ФГОС, стратегий повышения квалификации педагог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дачи методической служб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547280" y="1700280"/>
            <a:ext cx="7139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ть самостоятельно или с привлечением О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Карту образовательных ресурсов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необходимо включить и внешние ресурсы: научная и методическая поддержка преподавателей вузов), т.е. обеспечить навигацию в разного рода и разного уровня ресурсах повышения квалификац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дачи ММС и методической службы О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63280" y="2060640"/>
            <a:ext cx="6923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ть условия для разработки  педагогами  своих  индивидуальных образовательных маршрутов (ИОМ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дачи ММС и методической службы О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63280" y="1341360"/>
            <a:ext cx="6923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ть условия для предъявления педагогами результатов обучения, проектиров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необходимости создать условия для педагогического дискурса по  тем направлениям (УУД, механизмам и т.д.), которые наиболее актуальны в районе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собенно если реализуется некий общий районный проект или существует специально созданная мотивирующая сре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ловия для предъявления педагогами результатов обучения, проект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ён срок овладения педагогом новых компетен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вод в практическую плоскость полученных компетенций в своём ОУ на своём рабочем месте, в педагогическом сообществе, если это предусмотрено т/з (педагог как модерато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спертная оценка проекта, урока, курса, программы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оц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дачи методической служб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835280" y="2204640"/>
            <a:ext cx="68515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ММС развивается в направлении  тьюторства, то необходимо научиться таким способам деятельности и компетенциям, которыми должны владеть педаго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47640" y="1412640"/>
            <a:ext cx="727416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уществление мониторинга изменений в деятельности учител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ость и желание управленцев школы учитывать изменения в деятельности педагога при выстраивании образовательного процесса в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ость и желание управления образования считать инновационные образовательные процессы ОУ необходимым элементом системы образования рай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07640" y="2349000"/>
            <a:ext cx="6767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адровых (уточните термин- что-то у меня сомнения возникли, а Немова к терминологии явно пристрастна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ловий для введения ФГОС О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ис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32000" y="1125360"/>
            <a:ext cx="7354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Карта…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зона ответственности как ММС, так и ОУ. Каков механизм (кто составляет; основания; как осуществляется отбор имеющихся ресурс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ханизм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бора педагогами траектори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фессионального развития необходимо обдумать (соблюдение баланса между желаниями педагога и заданием ОУ, муниципалите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м буд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ханизм самоопредел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едагогов. Кто несёт ответственность: муниципалитет или ОУ? Как вообще его сформиров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 стан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ьютором для каждого педагог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йона? ММС? Заместитель директора? Кто-то из педагогов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амостоятельность педагогов в выборе траектории  может привести к «разовости» измен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роизойдёт изменений в образовательном процессе в силу незначительного масштаба новаций педагог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противление О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ым изменен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ханизм выбора педагогами  траектор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зависимости от заказчи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которым может бы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ит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 педаг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ак быть: совместить всё? Взять за основу что-то одно? М.б. комбинация элементов? С каким-то одним обязательны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продвинутых педагогов, а м.б, для всех педагогов давать рекомендации со стороны муниципалитета или ОУ по выбору какой-то части в подготовк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зависимости от содержания будущего курс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ческий компон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нитивный компон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мещение компонент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зависимости от категории педагог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? (каждой категории свой вариант?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Управляющая кнопка: назад 3"/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10925"/>
                </a:moveTo>
                <a:lnTo>
                  <a:pt x="17806" y="3918"/>
                </a:lnTo>
                <a:lnTo>
                  <a:pt x="17806" y="17931"/>
                </a:ln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граничен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фессиональный потенциал педагога (все задачи должны быть реалистичн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утствие подготовленных экспертов для решения актуальных задач деятельности педаг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ализ ситуа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и ФГОС (деятельностный подход, ответственность за результаты: УУД и компетентностные результат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жностные обязанности педагога (приказ от 26 августа 2010 г. N 761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187280" y="1599840"/>
            <a:ext cx="7499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особствует …формированию осознанного выбор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освоения образовательных программ, используя разнообразные формы, приемы, методы и средства обучения, в том числе по индивидуальным учебным планам, ускоренным курсам в рамках ФГОС, современные образовательные технологии... Обоснованно выбирает программы и учебно-методическое обеспечение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рабатывает рабочую программ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предмету, курсу … и обеспечивает ее выполнение, …ориентируясь на личность обучающегося, развитие его мотивации, познавательных интересов, способностей, организует самостоятельную деятельность обучающихся, в том числе исследовательскую, реализует проблемное обучение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носит предложения по совершенствованию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тельного процесса в образовательном учрежден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олжностные обязанност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чки роста педаго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ств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и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осредственное участие в устройстве «жизни школы» и влияние на неё : учитель – субъект своей профессиональ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которые вывод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19280" y="2276280"/>
            <a:ext cx="71294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к. педагоги должны обучать самоопределению, то они сами должны находиться в ситуации самоопредел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Управляющая кнопка: назад 4"/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10925"/>
                </a:moveTo>
                <a:lnTo>
                  <a:pt x="17806" y="3918"/>
                </a:lnTo>
                <a:lnTo>
                  <a:pt x="17806" y="17931"/>
                </a:ln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которые выво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76000" y="1341000"/>
            <a:ext cx="7093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к. в школе работают разные категории педагогов (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оваторы, понимающие, исполнители, неспециалис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то нужны и разные, оптимально учитывающие интересы каждой группы формы повышения профессиональных компетенций (проектирование, разъяснение, научение и т.д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Управляющая кнопка: назад 3"/>
          <p:cNvSpPr/>
          <p:nvPr/>
        </p:nvSpPr>
        <p:spPr>
          <a:xfrm>
            <a:off x="838836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10800"/>
                </a:moveTo>
                <a:lnTo>
                  <a:pt x="18794" y="3794"/>
                </a:lnTo>
                <a:lnTo>
                  <a:pt x="18794" y="17806"/>
                </a:ln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которые выв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03280" y="1268280"/>
            <a:ext cx="7416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.к. освоить всё сразу невозможно, то готовиться можно по тем направлениям, которые близки (знаешь и надо доработать), которыми совсем не владеешь или которые будят профессиональный интере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должен быть предложен широкий спектр содержания, который бы учитывал разные возможности, разные интересы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и разные категори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дагог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Управляющая кнопка: далее 4"/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которые выво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47640" y="1844640"/>
            <a:ext cx="734544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к. муниципалитет не может предложить весь спектр направлений и форм подготовки, то надо использовать ресурсы региона, страны (принцип открытого образова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Управляющая кнопка: назад 3"/>
          <p:cNvSpPr/>
          <p:nvPr/>
        </p:nvSpPr>
        <p:spPr>
          <a:xfrm>
            <a:off x="838836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10800"/>
                </a:moveTo>
                <a:lnTo>
                  <a:pt x="18794" y="3794"/>
                </a:lnTo>
                <a:lnTo>
                  <a:pt x="18794" y="17806"/>
                </a:lnTo>
                <a:close/>
              </a:path>
            </a:pathLst>
          </a:custGeom>
          <a:solidFill>
            <a:srgbClr val="d34817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User</cp:lastModifiedBy>
  <dcterms:modified xsi:type="dcterms:W3CDTF">2012-12-11T19:17:32Z</dcterms:modified>
  <cp:revision>51</cp:revision>
  <dc:subject/>
  <dc:title>Шаблон презентации</dc:title>
</cp:coreProperties>
</file>