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A82-71E1-49F8-9169-86668E1A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E1B-9301-4628-B4DD-23875626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230-BD12-4B8A-A117-D5E62C0C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29B-CC80-406D-92F1-F26B748D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D67-9AA2-4C14-AFFF-F83D3583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CD1-01A6-4B77-A6C6-57DF7B32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8CA-9BEC-4515-831E-12A76208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83D-CE24-42F5-905F-78CFEC22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749-4B3E-4B3E-BD0C-2EC65011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24A-BDCD-4109-902E-4DA55B53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F85-DA9F-448B-91B8-F7E0FCB0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4C7-C52A-45DE-8A3B-9B496B84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B2A7-E5F4-4589-8D2A-28F398D54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125000"/>
            <a:ext cx="87138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Организационно-методическое сопровождение введения ФГОС ООО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(в системе образования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Чайковского муниципального райо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40000" y="4076280"/>
            <a:ext cx="64800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Марина Владимировна Тюми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иректор МБОУ ДПО (ПК) 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«Центр информационно – коммуникационных технологи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г. Чайко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3.12.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9447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1425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Организационные структуры, обеспечивающие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 введение  ФГ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38400" cy="928800"/>
          </a:xfrm>
          <a:prstGeom prst="rect">
            <a:avLst/>
          </a:prstGeom>
          <a:ln w="0">
            <a:noFill/>
          </a:ln>
        </p:spPr>
      </p:pic>
      <p:sp>
        <p:nvSpPr>
          <p:cNvPr id="46" name="Freeform 31"/>
          <p:cNvSpPr/>
          <p:nvPr/>
        </p:nvSpPr>
        <p:spPr>
          <a:xfrm>
            <a:off x="857160" y="3357720"/>
            <a:ext cx="2468520" cy="2558880"/>
          </a:xfrm>
          <a:prstGeom prst="pie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0" rIns="72000" tIns="612000" bIns="36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ф. со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8 НО+6 ОО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32"/>
          <p:cNvSpPr/>
          <p:nvPr/>
        </p:nvSpPr>
        <p:spPr>
          <a:xfrm>
            <a:off x="3143160" y="3857760"/>
            <a:ext cx="3011400" cy="2558880"/>
          </a:xfrm>
          <a:prstGeom prst="pie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72000" tIns="612000" bIns="36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экспертно-метод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в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3"/>
          <p:cNvSpPr/>
          <p:nvPr/>
        </p:nvSpPr>
        <p:spPr>
          <a:xfrm>
            <a:off x="1071720" y="1357200"/>
            <a:ext cx="2490480" cy="2016360"/>
          </a:xfrm>
          <a:prstGeom prst="pie">
            <a:avLst/>
          </a:prstGeom>
          <a:solidFill>
            <a:srgbClr val="fffff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72000" tIns="36000" bIns="36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ные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ы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2 НО + 2 ОО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4"/>
          <p:cNvSpPr/>
          <p:nvPr/>
        </p:nvSpPr>
        <p:spPr>
          <a:xfrm>
            <a:off x="5572080" y="1285920"/>
            <a:ext cx="2994120" cy="2016000"/>
          </a:xfrm>
          <a:prstGeom prst="pie">
            <a:avLst/>
          </a:prstGeom>
          <a:solidFill>
            <a:srgbClr val="ffffff"/>
          </a:solidFill>
          <a:ln w="3816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24000" rIns="72000" tIns="36000" bIns="36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легия 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5"/>
          <p:cNvSpPr/>
          <p:nvPr/>
        </p:nvSpPr>
        <p:spPr>
          <a:xfrm>
            <a:off x="3357720" y="2286000"/>
            <a:ext cx="3006720" cy="2016000"/>
          </a:xfrm>
          <a:prstGeom prst="pie">
            <a:avLst/>
          </a:prstGeom>
          <a:solidFill>
            <a:srgbClr val="ffffff"/>
          </a:solidFill>
          <a:ln w="38160">
            <a:solidFill>
              <a:srgbClr val="0070c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2000" rIns="72000" tIns="36000" bIns="36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ординационный совет по введению ФГ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0"/>
          <p:cNvSpPr/>
          <p:nvPr/>
        </p:nvSpPr>
        <p:spPr>
          <a:xfrm>
            <a:off x="5929200" y="3571920"/>
            <a:ext cx="3006720" cy="2558880"/>
          </a:xfrm>
          <a:prstGeom prst="pie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2000" rIns="72000" tIns="612000" bIns="36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чие      группы (ВТ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3"/>
          <p:cNvSpPr/>
          <p:nvPr/>
        </p:nvSpPr>
        <p:spPr>
          <a:xfrm>
            <a:off x="142920" y="785880"/>
            <a:ext cx="9001080" cy="6215040"/>
          </a:xfrm>
          <a:prstGeom prst="rightArrow">
            <a:avLst>
              <a:gd name="adj1" fmla="val 79306"/>
              <a:gd name="adj2" fmla="val 34001"/>
            </a:avLst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0"/>
          </a:gra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00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Процессы, обеспечивающие сопровождение введения ФГ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14200" y="1490760"/>
            <a:ext cx="7358040" cy="438120"/>
          </a:xfrm>
          <a:prstGeom prst="roundRect">
            <a:avLst>
              <a:gd name="adj" fmla="val 9106"/>
            </a:avLst>
          </a:prstGeom>
          <a:solidFill>
            <a:srgbClr val="f2dcd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Участие в краевом проекте «Метапредметность в основной школе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14200" y="2000160"/>
            <a:ext cx="7358040" cy="500040"/>
          </a:xfrm>
          <a:prstGeom prst="roundRect">
            <a:avLst>
              <a:gd name="adj" fmla="val 9106"/>
            </a:avLst>
          </a:prstGeom>
          <a:solidFill>
            <a:srgbClr val="ffcc66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астие в курсовых мероприятиях (краев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14200" y="2571840"/>
            <a:ext cx="7358040" cy="500040"/>
          </a:xfrm>
          <a:prstGeom prst="roundRect">
            <a:avLst>
              <a:gd name="adj" fmla="val 9106"/>
            </a:avLst>
          </a:prstGeom>
          <a:solidFill>
            <a:srgbClr val="ffff66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КПК силами Ц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214200" y="4357800"/>
            <a:ext cx="7358040" cy="571320"/>
          </a:xfrm>
          <a:prstGeom prst="roundRect">
            <a:avLst>
              <a:gd name="adj" fmla="val 9106"/>
            </a:avLst>
          </a:prstGeom>
          <a:solidFill>
            <a:srgbClr val="8eb4e3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методического ауд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214200" y="5000760"/>
            <a:ext cx="7358040" cy="357120"/>
          </a:xfrm>
          <a:prstGeom prst="roundRect">
            <a:avLst>
              <a:gd name="adj" fmla="val 9106"/>
            </a:avLst>
          </a:prstGeom>
          <a:solidFill>
            <a:srgbClr val="b3a2c7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экспертных процедур (единичных проек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214200" y="5429160"/>
            <a:ext cx="7358040" cy="857520"/>
          </a:xfrm>
          <a:prstGeom prst="roundRect">
            <a:avLst>
              <a:gd name="adj" fmla="val 9106"/>
            </a:avLst>
          </a:prstGeom>
          <a:solidFill>
            <a:srgbClr val="00cc99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«лабораторных образцов» (проектные школ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е сесс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мейные образовательные  путешеств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214200" y="3143160"/>
            <a:ext cx="7358040" cy="500040"/>
          </a:xfrm>
          <a:prstGeom prst="roundRect">
            <a:avLst>
              <a:gd name="adj" fmla="val 9106"/>
            </a:avLst>
          </a:prstGeom>
          <a:solidFill>
            <a:srgbClr val="ccff99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и пр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ых методических конфер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14200" y="3714840"/>
            <a:ext cx="7358040" cy="571320"/>
          </a:xfrm>
          <a:prstGeom prst="roundRect">
            <a:avLst>
              <a:gd name="adj" fmla="val 9106"/>
            </a:avLst>
          </a:prstGeom>
          <a:solidFill>
            <a:srgbClr val="cc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постоянно-действующей рабочей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местителей директора школ – апробационных площ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42920" y="108000"/>
            <a:ext cx="100008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543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Матрица организационно-методического сопровождения введения ФГОС О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855720"/>
          <a:ext cx="9144000" cy="5594400"/>
        </p:xfrm>
        <a:graphic>
          <a:graphicData uri="http://schemas.openxmlformats.org/drawingml/2006/table">
            <a:tbl>
              <a:tblPr/>
              <a:tblGrid>
                <a:gridCol w="1695600"/>
                <a:gridCol w="1474560"/>
                <a:gridCol w="1254240"/>
                <a:gridCol w="1326960"/>
                <a:gridCol w="1401840"/>
                <a:gridCol w="684360"/>
                <a:gridCol w="1306440"/>
              </a:tblGrid>
              <a:tr h="356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одическое сопрово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gridSpan="6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зационные струк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легия Управ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и П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орд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онный совет по введению ФГО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ектные группы Программы разви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фесси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ьные сообщ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М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чие группы (ВТК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стие в краевом проекте «Метапредметность в ОШ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стие в курсовых мероприятиях (кра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зация КПК силами ЦИ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рганизация постоянно действующей РГ зам.директоров ОУ–апробац. площад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тодического ауди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экспертных процед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здание «лабораторных образцов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аши вопрос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ookman Old Style"/>
              </a:rPr>
              <a:t>http://mtumina.wordpres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ookman Old Style"/>
              </a:rPr>
              <a:t>http://chaikcikt.my1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643200" y="4357800"/>
            <a:ext cx="194472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9:06:28Z</dcterms:created>
  <dc:creator>User</dc:creator>
  <dc:description/>
  <dc:language>en-US</dc:language>
  <cp:lastModifiedBy>ДОМ</cp:lastModifiedBy>
  <dcterms:modified xsi:type="dcterms:W3CDTF">2012-12-12T17:03:16Z</dcterms:modified>
  <cp:revision>23</cp:revision>
  <dc:subject/>
  <dc:title>Организационно-методическое сопровождение введения ФГОС ООО (в системе образования Чайковского муниципального района)</dc:title>
</cp:coreProperties>
</file>