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C60-F6B1-4688-A1CF-64AA271F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3C0-05E5-403A-99BC-98DD8F7D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3CB-D512-483B-B6CF-EA07E5AB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D3F-FC48-473F-ACFA-DE279413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0DB0-7C11-491E-8F6B-BD9A63A8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6909-C1B0-498A-A4B2-6C2F914D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FDB3-94D9-4402-8476-0DA83AE4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8F57-584B-497C-8402-EDD0EA99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708E-97E2-4A95-9F14-88CE6F9D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523F-5CEC-4C99-9CC4-3129C842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05E3-3E3E-41B1-A83D-0AF6EF80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B2F-9264-4788-8466-6090F3FD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D2AF-8997-4AF2-8365-7CF1300C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D685-9EEA-4A08-9390-2449C0CA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B5D6-129C-487B-8933-406EEC9B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088D-0E96-49A4-95D2-7627CE83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DCC0-D3A5-4F4F-A405-3819CCF5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BF6FD-468F-402D-9ECE-FE1ED4FB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3524A-743E-4E4A-85EF-DC49ECBB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33ADE-AE62-41C0-8745-ADF59C40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9870B-28FA-4FA9-BAD6-DD03116A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70773-E390-450B-B742-5A3EBFB8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0C6-18ED-4284-BC58-1A0214D8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9A94C-B2EB-4512-986F-91D83933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AA1E1-ECC3-498C-BCAB-B7D2C3F5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8C8D4-AC60-4F8C-861F-021A8F1A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EC449-CE9F-44D6-8554-8C71500A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28085-C83E-409E-A1B3-7BF79F3E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D6CDC-BF42-4E57-96E2-5C757D46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3D650-DA53-43F7-8D2D-ED5BB925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6D58C-4FC5-4890-AF0B-D5323EB4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9E0ED-D94B-4453-AAD6-EA91891E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5BBE2-267B-4D98-AE20-1014D1F9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C6D-1F15-4713-9595-873A68C9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A27A8-3BAC-40D6-B682-BE3E6E17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8653-ADCB-45EC-A397-5292369C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2CB38-1AC6-42BB-9796-36BC10E2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EDF25-C889-454C-8548-7869F5E6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35125-91C0-4BE7-AF99-738F5018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068C2-7D5A-42C1-ADB8-3C109AD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82A4E-251E-4585-89DB-7E75DF06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6834-6400-4F84-9936-6CA27A24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63BA0-0461-4C57-8550-CABE9023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246-FEB3-478F-B813-897B0042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D29-FA83-46C4-A278-9E51D051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340-627E-45B9-9B93-B139B521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FBE-F4DC-41FD-B7D9-D54513F3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22B-C6DF-466A-834B-22E9CF16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A255-D431-442E-B370-9CE7E05103E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835C-88B9-4178-9E10-D5FC038C54C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AD6A-3D76-4A4F-B584-8EDDA793900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E8FF-7D37-4F81-9038-2E541F94C6F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75582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ческое сопровождение подготовки к введению ФГОС ООО в учреждениях Куединского район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284720" y="4149720"/>
            <a:ext cx="413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еминар-совещани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Итоги и перспективы научно-методического, организационно-методического сопровождения введения ФГОС ООО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288680" y="609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</a:rPr>
              <a:t>Реализация муниципальных проекто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0" y="1547640"/>
            <a:ext cx="91440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8840" y="1547640"/>
            <a:ext cx="180720" cy="550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981000"/>
          <a:ext cx="9144000" cy="5877000"/>
        </p:xfrm>
        <a:graphic>
          <a:graphicData uri="http://schemas.openxmlformats.org/drawingml/2006/table">
            <a:tbl>
              <a:tblPr/>
              <a:tblGrid>
                <a:gridCol w="2440080"/>
                <a:gridCol w="2311200"/>
                <a:gridCol w="2148120"/>
                <a:gridCol w="2244600"/>
              </a:tblGrid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-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d5a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-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bdde"/>
                    </a:solidFill>
                  </a:tcPr>
                </a:tc>
              </a:tr>
              <a:tr h="53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5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bdde"/>
                    </a:solidFill>
                  </a:tcPr>
                </a:tc>
              </a:tr>
            </a:tbl>
          </a:graphicData>
        </a:graphic>
      </p:graphicFrame>
      <p:sp>
        <p:nvSpPr>
          <p:cNvPr id="221" name="AutoShape 4"/>
          <p:cNvSpPr/>
          <p:nvPr/>
        </p:nvSpPr>
        <p:spPr>
          <a:xfrm>
            <a:off x="2556000" y="5589720"/>
            <a:ext cx="4176720" cy="10461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й проек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ниторинг качества образовательных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2484360" y="4292640"/>
            <a:ext cx="4176720" cy="1224000"/>
          </a:xfrm>
          <a:prstGeom prst="roundRect">
            <a:avLst>
              <a:gd name="adj" fmla="val 16667"/>
            </a:avLst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й проек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ООО: подготовка к введени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250920" y="2060640"/>
            <a:ext cx="2017440" cy="3456000"/>
          </a:xfrm>
          <a:custGeom>
            <a:avLst/>
            <a:gdLst>
              <a:gd name="textAreaLeft" fmla="*/ 98280 w 2017440"/>
              <a:gd name="textAreaRight" fmla="*/ 1919160 w 2017440"/>
              <a:gd name="textAreaTop" fmla="*/ 98280 h 3456000"/>
              <a:gd name="textAreaBottom" fmla="*/ 3357720 h 3456000"/>
            </a:gdLst>
            <a:ahLst/>
            <a:rect l="textAreaLeft" t="textAreaTop" r="textAreaRight" b="textAreaBottom"/>
            <a:pathLst>
              <a:path w="21600" h="36999">
                <a:moveTo>
                  <a:pt x="3600" y="0"/>
                </a:moveTo>
                <a:arcTo wR="3600" hR="3600" stAng="16200000" swAng="-5400000"/>
                <a:lnTo>
                  <a:pt x="0" y="33399"/>
                </a:lnTo>
                <a:arcTo wR="3600" hR="3600" stAng="10800000" swAng="-5400000"/>
                <a:lnTo>
                  <a:pt x="18000" y="36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й проек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образования в условиях введения ФГО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2484360" y="1700280"/>
            <a:ext cx="2158920" cy="2520720"/>
          </a:xfrm>
          <a:custGeom>
            <a:avLst/>
            <a:gdLst>
              <a:gd name="textAreaLeft" fmla="*/ 105120 w 2158920"/>
              <a:gd name="textAreaRight" fmla="*/ 2053800 w 2158920"/>
              <a:gd name="textAreaTop" fmla="*/ 105120 h 2520720"/>
              <a:gd name="textAreaBottom" fmla="*/ 2415600 h 2520720"/>
            </a:gdLst>
            <a:ahLst/>
            <a:rect l="textAreaLeft" t="textAreaTop" r="textAreaRight" b="textAreaBottom"/>
            <a:pathLst>
              <a:path w="21600" h="25219">
                <a:moveTo>
                  <a:pt x="3600" y="0"/>
                </a:moveTo>
                <a:arcTo wR="3600" hR="3600" stAng="16200000" swAng="-5400000"/>
                <a:lnTo>
                  <a:pt x="0" y="21619"/>
                </a:lnTo>
                <a:arcTo wR="3600" hR="3600" stAng="10800000" swAng="-5400000"/>
                <a:lnTo>
                  <a:pt x="18000" y="25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й проек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деятельности учителя в условиях реализации ФГО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 rot="16200000">
            <a:off x="1871640" y="3321000"/>
            <a:ext cx="1079280" cy="431640"/>
          </a:xfrm>
          <a:prstGeom prst="downArrow">
            <a:avLst>
              <a:gd name="adj1" fmla="val 42065"/>
              <a:gd name="adj2" fmla="val 3472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imes New Roman"/>
              </a:rPr>
              <a:t>Муниципальный проект </a:t>
            </a: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«Обновление деятельности учителя в условиях реализации ФГОС»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213920"/>
            <a:ext cx="88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еминары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Постановка целей и задач урока с учетом типологии уроков в условиях реализации системно-деятельностного подхода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кум по проектированию целей и задач урок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Планирование новых образовательных результатов урока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Педагогическая рефлексия урока учителем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Типы учебных ситуаций как средство решения задач урока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рганизация сотрудничества в урочной и внеурочной деятельности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Эффективные способы работы с текстом на уроках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Технология дифференцированного обучения – базовая технология ФГОС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собенности учебников и УМК нового поколения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Новое цифровое оборудование в учебной деятельности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Урок в новой информационно-образовательной среде»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ые объединени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Г «Деятельностный подход на уроке» (для учителей основной школы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Г «Проблемно-диалогическое обучение: особенности урока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Г «Использование технологии деятельностного метода на уроках в основной школе»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ДС «Современные технологии во внеурочной деятельности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униципальные курсы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Технологическая компетентность педагога»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Актуальные вопросы организации современного урока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анорама открытых урок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Технологии на уроке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ни учителя-предметник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4470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</a:rPr>
              <a:t>Муниципальный проект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</a:rPr>
              <a:t> «ФГОС ООО: подготовка к введению и реализация»</a:t>
            </a:r>
            <a:br>
              <a:rPr sz="2500"/>
            </a:br>
            <a:r>
              <a:rPr b="0" lang="ru-RU" sz="2500" spc="-1" strike="noStrike">
                <a:solidFill>
                  <a:srgbClr val="424456"/>
                </a:solidFill>
                <a:latin typeface="Times New Roman"/>
              </a:rPr>
              <a:t>Разработка ООП ООО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14200" y="2071800"/>
          <a:ext cx="8785440" cy="4394160"/>
        </p:xfrm>
        <a:graphic>
          <a:graphicData uri="http://schemas.openxmlformats.org/drawingml/2006/table">
            <a:tbl>
              <a:tblPr/>
              <a:tblGrid>
                <a:gridCol w="4937400"/>
                <a:gridCol w="1234800"/>
                <a:gridCol w="1293840"/>
                <a:gridCol w="1319400"/>
              </a:tblGrid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атываемые разделы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-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яснительная записка. Планируемые результат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@Arial Unicode MS"/>
                        </a:rPr>
                        <a:t>освоения обучающимися ООП О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ректировка, доработка ООП О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а оценки достижения планируемы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рамма «Формирование универсальных учебных действий»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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смыслового чтения и работы с текст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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ИКТ-компетентности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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ы учебно-исследовательской и проект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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универсальных учебных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рамма воспитания и социализации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й план школы. План внеуроч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а условий реализации ОО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24456"/>
                </a:solidFill>
                <a:latin typeface="Times New Roman"/>
              </a:rPr>
              <a:t>Алгоритм действий по планированию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</a:rPr>
              <a:t>и достижению метапредметных результатов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AutoShape 23"/>
          <p:cNvSpPr/>
          <p:nvPr/>
        </p:nvSpPr>
        <p:spPr>
          <a:xfrm>
            <a:off x="3000240" y="1571760"/>
            <a:ext cx="5240520" cy="1150920"/>
          </a:xfrm>
          <a:prstGeom prst="roundRect">
            <a:avLst>
              <a:gd name="adj" fmla="val 259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ределение метапредметных результатов по клас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4"/>
          <p:cNvSpPr/>
          <p:nvPr/>
        </p:nvSpPr>
        <p:spPr>
          <a:xfrm>
            <a:off x="5364000" y="2781360"/>
            <a:ext cx="648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828360" y="1915560"/>
            <a:ext cx="16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4"/>
          <p:cNvSpPr/>
          <p:nvPr/>
        </p:nvSpPr>
        <p:spPr>
          <a:xfrm>
            <a:off x="-1189080" y="-1832040"/>
            <a:ext cx="360" cy="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метапредметных результаты по классам (включить в ОО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6"/>
          <p:cNvSpPr/>
          <p:nvPr/>
        </p:nvSpPr>
        <p:spPr>
          <a:xfrm>
            <a:off x="-1187280" y="-552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7"/>
          <p:cNvSpPr/>
          <p:nvPr/>
        </p:nvSpPr>
        <p:spPr>
          <a:xfrm>
            <a:off x="757080" y="3715920"/>
            <a:ext cx="16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8"/>
          <p:cNvSpPr/>
          <p:nvPr/>
        </p:nvSpPr>
        <p:spPr>
          <a:xfrm>
            <a:off x="-1189080" y="942840"/>
            <a:ext cx="360" cy="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34"/>
          <p:cNvSpPr/>
          <p:nvPr/>
        </p:nvSpPr>
        <p:spPr>
          <a:xfrm>
            <a:off x="-415800" y="-1770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25"/>
          <p:cNvSpPr/>
          <p:nvPr/>
        </p:nvSpPr>
        <p:spPr>
          <a:xfrm>
            <a:off x="755640" y="573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26"/>
          <p:cNvSpPr/>
          <p:nvPr/>
        </p:nvSpPr>
        <p:spPr>
          <a:xfrm>
            <a:off x="-1189080" y="6014880"/>
            <a:ext cx="360" cy="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22"/>
          <p:cNvSpPr/>
          <p:nvPr/>
        </p:nvSpPr>
        <p:spPr>
          <a:xfrm>
            <a:off x="-1187280" y="85348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23"/>
          <p:cNvSpPr/>
          <p:nvPr/>
        </p:nvSpPr>
        <p:spPr>
          <a:xfrm>
            <a:off x="-1189080" y="9016920"/>
            <a:ext cx="301788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44"/>
          <p:cNvSpPr/>
          <p:nvPr/>
        </p:nvSpPr>
        <p:spPr>
          <a:xfrm>
            <a:off x="3059280" y="3357720"/>
            <a:ext cx="5184720" cy="14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приоритетных УУД, последовательности освоения планируемых результатов в каждом классе, определение сроков и периода осв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45"/>
          <p:cNvSpPr/>
          <p:nvPr/>
        </p:nvSpPr>
        <p:spPr>
          <a:xfrm>
            <a:off x="3059280" y="5445000"/>
            <a:ext cx="5240160" cy="1150920"/>
          </a:xfrm>
          <a:prstGeom prst="roundRect">
            <a:avLst>
              <a:gd name="adj" fmla="val 27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воение учебных действий в рамках отведенного пери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46"/>
          <p:cNvSpPr/>
          <p:nvPr/>
        </p:nvSpPr>
        <p:spPr>
          <a:xfrm>
            <a:off x="5364000" y="4869000"/>
            <a:ext cx="648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</a:rPr>
              <a:t>Школьная команда</a:t>
            </a:r>
            <a:r>
              <a:rPr b="0" lang="ru-RU" sz="3200" spc="-1" strike="noStrike">
                <a:solidFill>
                  <a:srgbClr val="424456"/>
                </a:solidFill>
                <a:latin typeface="Times New Roman"/>
              </a:rPr>
              <a:t> – координатор подготовки учреждения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</a:rPr>
              <a:t>к введению ФГОС ООО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757800" y="386244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ко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а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132000" y="393552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тевой 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581080" y="2638440"/>
            <a:ext cx="263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ебно-воспит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 работы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…………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684360" y="235116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ическо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AutoShape 8"/>
          <p:cNvGrpSpPr/>
          <p:nvPr/>
        </p:nvGrpSpPr>
        <p:grpSpPr>
          <a:xfrm>
            <a:off x="974880" y="3097080"/>
            <a:ext cx="561960" cy="712800"/>
            <a:chOff x="974880" y="3097080"/>
            <a:chExt cx="561960" cy="712800"/>
          </a:xfrm>
        </p:grpSpPr>
        <p:pic>
          <p:nvPicPr>
            <p:cNvPr id="252" name="AutoShape 8" descr=""/>
            <p:cNvPicPr/>
            <p:nvPr/>
          </p:nvPicPr>
          <p:blipFill>
            <a:blip r:embed="rId1"/>
            <a:stretch/>
          </p:blipFill>
          <p:spPr>
            <a:xfrm>
              <a:off x="974880" y="3097080"/>
              <a:ext cx="5619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150920" y="3141720"/>
              <a:ext cx="217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AutoShape 9"/>
          <p:cNvGrpSpPr/>
          <p:nvPr/>
        </p:nvGrpSpPr>
        <p:grpSpPr>
          <a:xfrm>
            <a:off x="1047600" y="4681440"/>
            <a:ext cx="561960" cy="701640"/>
            <a:chOff x="1047600" y="4681440"/>
            <a:chExt cx="561960" cy="701640"/>
          </a:xfrm>
        </p:grpSpPr>
        <p:pic>
          <p:nvPicPr>
            <p:cNvPr id="255" name="AutoShape 9" descr=""/>
            <p:cNvPicPr/>
            <p:nvPr/>
          </p:nvPicPr>
          <p:blipFill>
            <a:blip r:embed="rId2"/>
            <a:stretch/>
          </p:blipFill>
          <p:spPr>
            <a:xfrm>
              <a:off x="1047600" y="4681440"/>
              <a:ext cx="5619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224000" y="4724280"/>
              <a:ext cx="217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0"/>
          <p:cNvSpPr/>
          <p:nvPr/>
        </p:nvSpPr>
        <p:spPr>
          <a:xfrm>
            <a:off x="468720" y="5589720"/>
            <a:ext cx="19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н работы Ш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AutoShape 11"/>
          <p:cNvGrpSpPr/>
          <p:nvPr/>
        </p:nvGrpSpPr>
        <p:grpSpPr>
          <a:xfrm>
            <a:off x="2127240" y="3749760"/>
            <a:ext cx="920880" cy="699840"/>
            <a:chOff x="2127240" y="3749760"/>
            <a:chExt cx="920880" cy="699840"/>
          </a:xfrm>
        </p:grpSpPr>
        <p:pic>
          <p:nvPicPr>
            <p:cNvPr id="259" name="AutoShape 11" descr=""/>
            <p:cNvPicPr/>
            <p:nvPr/>
          </p:nvPicPr>
          <p:blipFill>
            <a:blip r:embed="rId3"/>
            <a:stretch/>
          </p:blipFill>
          <p:spPr>
            <a:xfrm>
              <a:off x="2127240" y="3749760"/>
              <a:ext cx="9208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195640" y="3933720"/>
              <a:ext cx="6937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AutoShape 12"/>
          <p:cNvGrpSpPr/>
          <p:nvPr/>
        </p:nvGrpSpPr>
        <p:grpSpPr>
          <a:xfrm>
            <a:off x="4950000" y="3164040"/>
            <a:ext cx="841320" cy="682560"/>
            <a:chOff x="4950000" y="3164040"/>
            <a:chExt cx="841320" cy="682560"/>
          </a:xfrm>
        </p:grpSpPr>
        <p:pic>
          <p:nvPicPr>
            <p:cNvPr id="262" name="AutoShape 12" descr=""/>
            <p:cNvPicPr/>
            <p:nvPr/>
          </p:nvPicPr>
          <p:blipFill>
            <a:blip r:embed="rId4"/>
            <a:stretch/>
          </p:blipFill>
          <p:spPr>
            <a:xfrm>
              <a:off x="4950000" y="3164040"/>
              <a:ext cx="841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604400">
              <a:off x="5011200" y="3401640"/>
              <a:ext cx="6940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AutoShape 13"/>
          <p:cNvGrpSpPr/>
          <p:nvPr/>
        </p:nvGrpSpPr>
        <p:grpSpPr>
          <a:xfrm>
            <a:off x="5102280" y="4187880"/>
            <a:ext cx="822240" cy="708120"/>
            <a:chOff x="5102280" y="4187880"/>
            <a:chExt cx="822240" cy="708120"/>
          </a:xfrm>
        </p:grpSpPr>
        <p:pic>
          <p:nvPicPr>
            <p:cNvPr id="265" name="AutoShape 13" descr=""/>
            <p:cNvPicPr/>
            <p:nvPr/>
          </p:nvPicPr>
          <p:blipFill>
            <a:blip r:embed="rId5"/>
            <a:stretch/>
          </p:blipFill>
          <p:spPr>
            <a:xfrm>
              <a:off x="5102280" y="4187880"/>
              <a:ext cx="8222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2233800">
              <a:off x="5157360" y="4425480"/>
              <a:ext cx="69372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AutoShape 14"/>
          <p:cNvGrpSpPr/>
          <p:nvPr/>
        </p:nvGrpSpPr>
        <p:grpSpPr>
          <a:xfrm>
            <a:off x="5151600" y="3749760"/>
            <a:ext cx="920520" cy="493560"/>
            <a:chOff x="5151600" y="3749760"/>
            <a:chExt cx="920520" cy="493560"/>
          </a:xfrm>
        </p:grpSpPr>
        <p:pic>
          <p:nvPicPr>
            <p:cNvPr id="268" name="AutoShape 14" descr=""/>
            <p:cNvPicPr/>
            <p:nvPr/>
          </p:nvPicPr>
          <p:blipFill>
            <a:blip r:embed="rId6"/>
            <a:stretch/>
          </p:blipFill>
          <p:spPr>
            <a:xfrm>
              <a:off x="5151600" y="3749760"/>
              <a:ext cx="9205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219640" y="3879720"/>
              <a:ext cx="69372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AutoShape 15"/>
          <p:cNvGrpSpPr/>
          <p:nvPr/>
        </p:nvGrpSpPr>
        <p:grpSpPr>
          <a:xfrm>
            <a:off x="2048040" y="4297320"/>
            <a:ext cx="1852560" cy="1146240"/>
            <a:chOff x="2048040" y="4297320"/>
            <a:chExt cx="1852560" cy="1146240"/>
          </a:xfrm>
        </p:grpSpPr>
        <p:pic>
          <p:nvPicPr>
            <p:cNvPr id="271" name="AutoShape 15" descr=""/>
            <p:cNvPicPr/>
            <p:nvPr/>
          </p:nvPicPr>
          <p:blipFill>
            <a:blip r:embed="rId7"/>
            <a:stretch/>
          </p:blipFill>
          <p:spPr>
            <a:xfrm>
              <a:off x="2048040" y="4297320"/>
              <a:ext cx="18525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 rot="3639000">
              <a:off x="2988360" y="3969720"/>
              <a:ext cx="136440" cy="17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новационные практики в школах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5"/>
          <p:cNvSpPr/>
          <p:nvPr/>
        </p:nvSpPr>
        <p:spPr>
          <a:xfrm>
            <a:off x="6178680" y="-1879560"/>
            <a:ext cx="228600" cy="350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69696">
              <a:alpha val="55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6178680" y="-3343320"/>
            <a:ext cx="228600" cy="351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69696">
              <a:alpha val="55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830160" y="-4292640"/>
            <a:ext cx="125748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3"/>
          <p:cNvSpPr/>
          <p:nvPr/>
        </p:nvSpPr>
        <p:spPr>
          <a:xfrm>
            <a:off x="830160" y="-4292640"/>
            <a:ext cx="125748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0"/>
          <p:cNvSpPr/>
          <p:nvPr/>
        </p:nvSpPr>
        <p:spPr>
          <a:xfrm>
            <a:off x="830160" y="-4292640"/>
            <a:ext cx="125748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40"/>
          <p:cNvSpPr/>
          <p:nvPr/>
        </p:nvSpPr>
        <p:spPr>
          <a:xfrm>
            <a:off x="1538280" y="-378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93"/>
          <p:cNvSpPr/>
          <p:nvPr/>
        </p:nvSpPr>
        <p:spPr>
          <a:xfrm>
            <a:off x="1538280" y="-3281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47"/>
          <p:cNvSpPr/>
          <p:nvPr/>
        </p:nvSpPr>
        <p:spPr>
          <a:xfrm>
            <a:off x="1538280" y="-261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98"/>
          <p:cNvSpPr/>
          <p:nvPr/>
        </p:nvSpPr>
        <p:spPr>
          <a:xfrm>
            <a:off x="1538280" y="-2014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99"/>
          <p:cNvSpPr/>
          <p:nvPr/>
        </p:nvSpPr>
        <p:spPr>
          <a:xfrm>
            <a:off x="1538280" y="-1839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10"/>
          <p:cNvSpPr/>
          <p:nvPr/>
        </p:nvSpPr>
        <p:spPr>
          <a:xfrm>
            <a:off x="3608280" y="-2014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1"/>
          <p:cNvSpPr/>
          <p:nvPr/>
        </p:nvSpPr>
        <p:spPr>
          <a:xfrm>
            <a:off x="3608280" y="-1839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44"/>
          <p:cNvSpPr/>
          <p:nvPr/>
        </p:nvSpPr>
        <p:spPr>
          <a:xfrm>
            <a:off x="3608280" y="-1839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601560"/>
          <a:ext cx="9144000" cy="6248520"/>
        </p:xfrm>
        <a:graphic>
          <a:graphicData uri="http://schemas.openxmlformats.org/drawingml/2006/table">
            <a:tbl>
              <a:tblPr/>
              <a:tblGrid>
                <a:gridCol w="263520"/>
                <a:gridCol w="4851360"/>
                <a:gridCol w="1257480"/>
                <a:gridCol w="1373040"/>
                <a:gridCol w="139860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-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-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и реализация программ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актика организации проектной и исследовательской деятельности, апробация индивидуального учебного проекта, как инструмента оценки метапредметных результатов (Госконзаводская СО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но-педагогическая деятельность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остранение опыта через деятельность муниципального опорного образовательного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актика использования базовых образовательных технологий развивающего обучения в реализации урочной и внеурочной деятельности (Большеусинская СО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актика реализации индивидуальных образовательных планов учащихся, как средства достижения новых образовательных результатов (Большегондырская СО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программы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еализация этнокультурного компонента в условиях нов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ований Стандарта, получение новых результатов (Киргинская ОО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ытно-педагогиче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программ апробацион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еализация этнокультурного компонента в условиях новых требований Стандарта, получение новых результатов (Дойнинская ОО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программы апробацион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ляция опыта апробационной площад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пробация ОС «Школа 2100» в контексте требований ФГОС ООО (Куединская СОШ №1-Б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актика формирования УУД (целеполагание, самоопределение и рефлексия) учащихся 5-7 классов через реализацию модели ранней профилизации (Куединская СОШ №2-БШ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9" name="AutoShape 4"/>
          <p:cNvSpPr/>
          <p:nvPr/>
        </p:nvSpPr>
        <p:spPr>
          <a:xfrm>
            <a:off x="7596360" y="2205000"/>
            <a:ext cx="228600" cy="351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69696">
              <a:alpha val="55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53"/>
          <p:cNvSpPr/>
          <p:nvPr/>
        </p:nvSpPr>
        <p:spPr>
          <a:xfrm>
            <a:off x="7667640" y="1413000"/>
            <a:ext cx="228600" cy="350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69696">
              <a:alpha val="55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54"/>
          <p:cNvSpPr/>
          <p:nvPr/>
        </p:nvSpPr>
        <p:spPr>
          <a:xfrm>
            <a:off x="7667640" y="3141720"/>
            <a:ext cx="228600" cy="350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69696">
              <a:alpha val="55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7:11:36Z</dcterms:created>
  <dc:creator>1</dc:creator>
  <dc:description/>
  <dc:language>en-US</dc:language>
  <cp:lastModifiedBy>Пользователь</cp:lastModifiedBy>
  <dcterms:modified xsi:type="dcterms:W3CDTF">2012-12-13T01:14:23Z</dcterms:modified>
  <cp:revision>21</cp:revision>
  <dc:subject/>
  <dc:title>Методическое сопровождение подготовки и реализации ФГОС ООО в учреждениях Куединского района</dc:title>
</cp:coreProperties>
</file>