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A71-78B8-40B8-AD7C-2EB12CDB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CEE-E177-4F71-95E7-E1AE79CF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E1C-A3A7-4063-8BE6-AB4AC6C9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F6D-FB09-4B2F-9E30-F71D7940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7BAA-729F-4480-B1E3-885FF4F8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5FD9-500A-4257-91E9-5F9F8D15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2658-FCB0-48D2-8676-0C178A5C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8379-DE1B-48BE-A553-8C20E9A0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8CFE-1668-4006-B78A-CEAC50EC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A57A-EEFD-445E-80A6-1D23D03D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D94F-D7A9-4117-803A-D1AD8AC9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D8B-0D7B-4446-AE9B-522FF278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D17B-D2C5-42B6-922E-325E8FD7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82FA-2765-45B9-A880-AD947BE4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B88A-94D2-4EE7-A7B6-D9DA6441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EEF8-9579-4C22-9F75-3C9AF393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9306-F566-48BC-B89C-725C30BD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CBF-6757-4AD4-9DC7-D9092933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1B7-F0B9-43DE-861D-AD036806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90B-7CC2-4265-9611-DF3E77BA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C6D-5CFA-4EC5-8B13-B83276A0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735-C9E0-475D-A238-BD95D7FE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40B-8C77-493E-AF97-6A0EF0F7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31D-557F-42A9-BBF2-D4BF7039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0EC4-7532-4943-96E4-BDCBE4F6F8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5C1C-13F8-4325-8D5C-892A5F51941B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«Достижение метапредметных и личностных результатов в основной школе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отаева Т.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руглый стол»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533520"/>
            <a:ext cx="7157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опросы для обс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деятельности апробационных площадок ФГОС ООО Пермского края в 2012г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деятельности апробационных площадок ФГОС ООО в 2013г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876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и механизмы научно-методического, организационно-методического сопровождения введения ФГОС ООО в Пермском крае на региональном и муниципальном уровнях в 2013г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емы деятельности апробационных площадок ФГОС ООО Пермского кр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развития критического мышления средствами чтения и письма как средство организации познавательной и рефлексивной деятельности детей на уроках». МАОУ «СОШ № 15» г. Губах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дуктивные задания при работе с текстом как средство достижения метапредметных результатов». МБОУ «Рождественская СОШ» Карагайского район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истема проектных мастерских для учащихся 5-6 класса как механизм формирования и развития регулятивных УУД, оформления у младших подростков образовательного интереса». МБОУ СОШ №1 г. Оханск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Формирование и оценка информационной компетентности обучающихся 5 класса во внеурочной деятельности». МОУ Платошинская СОШ Пермского район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зработка критериев оценивания метапредметного результата -«смысловое чтение». МАОУ СОШ №1 г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6:14:54Z</dcterms:created>
  <dc:creator>НоутБукофф</dc:creator>
  <dc:description/>
  <dc:language>en-US</dc:language>
  <cp:lastModifiedBy>User</cp:lastModifiedBy>
  <dcterms:modified xsi:type="dcterms:W3CDTF">2012-12-24T07:41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